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931A-7C0D-4FA0-A859-0392DDF4AF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F7A1CDF2-CEC6-490F-A991-2A580D4815F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7358-00E8-4F5B-9486-248D867BC78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5EFB-026F-4FE5-9315-79D78B2AECC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807-FF32-47BF-B40C-1F0FB06C4F5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25AF-A4D6-4DFE-9FB7-45075C64859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8663D-BB6E-4C60-A523-F39709B4F0F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39C2-13B1-4E27-B1F1-61CF0DD2BDD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C0E-C51A-4D16-94C7-94406D3589E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C9E6-4C3A-4D0D-9014-8A97830D016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765-FA05-4912-B05C-1BE2E3EB3DE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8AC1-351A-4613-8C31-D95FC21365E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835E-EE10-499D-A558-4D23D02539A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8F99-2796-4EFC-B8CC-8F0178C4765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8FDE-2E33-494C-BCA1-78F0760804E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E361-330C-4454-97C1-8675A560878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5EC2-B348-4212-8B4F-FDFB9D51F33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FE70-5C21-4C99-8A19-94F9FE29B94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4339-9FE2-4222-B2D8-D6B4AE31E48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C9A0-8704-4131-9CA7-6EC7474D5C1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83F9-3EC6-4ECB-AB13-66D9DF7A311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4DBE-A164-436F-B667-765A151BCE9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CF1C-7233-430B-96E0-B8717DBC336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567-FB79-47FE-9ABB-3A0F72FD276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28F-C64E-4E95-ACC0-42056BA8873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E4E8-CD2E-4D40-B77E-9D2CDFB8205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D97-514D-4979-81AA-F99240C1C73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8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9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0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1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E6E1-95DE-4EA8-BF19-7BA48D99A88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440E-C698-44B3-B38D-EBDC2EC2D9C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F09B-799C-4A6F-BF6E-AD310F558AF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7C79-D84D-4279-A75E-08F6889AB9D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9FC9-AD92-4F6F-B7CF-7B3944D1B3D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2D88-EACF-4A42-8C3F-36A7DE9947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A67F-3776-4FC2-AC7D-1D93FC24107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4FE2-5399-47C5-89D7-FCAE08C6B0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ECF1-9076-4FD5-BAB5-0093AD34325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2A15-033C-4832-AFF4-56B5C7F76F3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2422-1F91-4C9B-A5D3-596AF8FE413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8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9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0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1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3B0-1204-4267-84B2-68BD18C77AE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5C67-788C-4B15-9908-1F539100204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DCFC-BDE1-45E5-8117-E7CE88A21E3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5615-7BC6-40D9-9B26-0D3D560A7E7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49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A9BD-E229-4914-9B43-C6280E235F3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B1FA-07A7-4E13-B078-394E8267C23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26FF-1212-4A57-83DD-132B8C7E1AB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246E-6140-47E5-9BBA-9E737F2F01E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C70D-8C7F-4F2E-A03B-8D06579B31C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70B0-B845-4C68-A37E-943CFA17479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7594-AD1F-462A-B211-1429F1F4A87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8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9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0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1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6FA6-9335-4603-B6FD-209F8CA6A94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AD3-3913-4476-AA55-5F25AFDEB6A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7F07-F005-4D61-BFF5-FF3E6E1A014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30AA-A76D-4433-827B-8236414038A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0947-0AB1-4202-8D66-220CEC4CC8C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D1D-6E59-42D2-96DF-0BA218B6779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7C3A-A1C2-4226-946E-55F0FA68276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8684-734F-4271-B4A9-B9146BB4534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F104-92A9-43B0-ADE9-3B617343C77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B49E-56E2-45F1-B80D-D5C8BB7FB4C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FB8-A287-4793-A167-ECE5282A813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4695-6DBD-4BED-977E-F1594FBF50B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168A-DDA0-4E60-A279-B6E0D573517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E16A-EF78-40C7-A2AD-2B47FA2139B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F11C-FACA-407C-B7CA-79CD4E6C386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06C9-4920-4C7B-84E4-E68BF4072B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60640" y="698400"/>
            <a:ext cx="4536720" cy="34038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16B5-52C8-4F0B-8686-4841C18AF70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410-3C76-4D8B-9EBC-013262C76DA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66BE-E90D-40B6-BE5D-DA473C4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75F-BA5F-4D9C-8482-F2010A4E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867-6E75-4559-BDAE-6834F5FF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D70-A684-43DC-A73B-E5831139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AE32-9A7B-4689-B04B-896C8E21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A36F-96C5-499A-9BC7-4383D59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30A4-599E-4BBD-BD88-6229E650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D40-DE60-4A5F-BFF9-5B9A7284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6BAD-D338-4BB1-80BE-5721A88C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D16F-7C1D-402B-A232-BF6CF5F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DC57-B847-4FA1-85D1-0ED0D81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ABB-5578-4285-B27F-100A9F2A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AF2F-CED4-46CE-824E-15A9FFB0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2AFF-2563-430B-9CF0-E2D2B426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AC70-A4DF-4113-8A3F-6A1CD8E3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FFDD-2825-468E-8BEE-3C32F085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081-7F35-494D-AD41-86B217A5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2FE-A792-43BC-898F-87988F1C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019-80B5-4DA6-B79A-CAA7C833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63D-B0D2-40AD-B672-E79EAA95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B85E-DF0C-4A98-8600-FFC14A2D4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A8F-8AF8-4840-9833-7C70B1D2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8C35-BB72-41E3-A0D7-3EF165A6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B9B-CDC8-4127-AF16-C404993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25FF-C264-4473-B80E-493B62C0F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E1C2-487F-4B30-A02A-DA0E6720A4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149960" cy="142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6:  Planning the Firm’s Financing Mix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43600" y="16765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w do we want to finance our firm’s asset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" name="Group 8"/>
          <p:cNvGrpSpPr/>
          <p:nvPr/>
        </p:nvGrpSpPr>
        <p:grpSpPr>
          <a:xfrm>
            <a:off x="304920" y="1319040"/>
            <a:ext cx="8305560" cy="5538960"/>
            <a:chOff x="304920" y="1319040"/>
            <a:chExt cx="8305560" cy="5538960"/>
          </a:xfrm>
        </p:grpSpPr>
        <p:graphicFrame>
          <p:nvGraphicFramePr>
            <p:cNvPr id="105" name="Object 9"/>
            <p:cNvGraphicFramePr/>
            <p:nvPr/>
          </p:nvGraphicFramePr>
          <p:xfrm>
            <a:off x="304920" y="1319040"/>
            <a:ext cx="8305560" cy="5538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319040"/>
                      <a:ext cx="8305560" cy="553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" name="WordArt 10"/>
            <p:cNvSpPr txBox="1"/>
            <p:nvPr/>
          </p:nvSpPr>
          <p:spPr>
            <a:xfrm>
              <a:off x="1371600" y="3276720"/>
              <a:ext cx="205740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6820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Common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Equity</a:t>
              </a:r>
              <a:endPara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08" name="WordArt 11"/>
            <p:cNvSpPr txBox="1"/>
            <p:nvPr/>
          </p:nvSpPr>
          <p:spPr>
            <a:xfrm>
              <a:off x="3809880" y="2819520"/>
              <a:ext cx="144792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Debt</a:t>
              </a:r>
              <a:endPara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9" name="WordArt 12"/>
            <p:cNvSpPr txBox="1"/>
            <p:nvPr/>
          </p:nvSpPr>
          <p:spPr>
            <a:xfrm>
              <a:off x="3657600" y="4800600"/>
              <a:ext cx="175248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</a:rPr>
                <a:t>Preferred</a:t>
              </a:r>
              <a:endPara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360" y="1724040"/>
            <a:ext cx="1474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st of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9" name="Group 6"/>
          <p:cNvGrpSpPr/>
          <p:nvPr/>
        </p:nvGrpSpPr>
        <p:grpSpPr>
          <a:xfrm>
            <a:off x="1352520" y="1657440"/>
            <a:ext cx="7473960" cy="4286160"/>
            <a:chOff x="1352520" y="1657440"/>
            <a:chExt cx="7473960" cy="4286160"/>
          </a:xfrm>
        </p:grpSpPr>
        <p:grpSp>
          <p:nvGrpSpPr>
            <p:cNvPr id="170" name="Group 7"/>
            <p:cNvGrpSpPr/>
            <p:nvPr/>
          </p:nvGrpSpPr>
          <p:grpSpPr>
            <a:xfrm>
              <a:off x="1587600" y="1657440"/>
              <a:ext cx="7238880" cy="4286160"/>
              <a:chOff x="1587600" y="1657440"/>
              <a:chExt cx="7238880" cy="4286160"/>
            </a:xfrm>
          </p:grpSpPr>
          <p:sp>
            <p:nvSpPr>
              <p:cNvPr id="171" name="Line 8"/>
              <p:cNvSpPr/>
              <p:nvPr/>
            </p:nvSpPr>
            <p:spPr>
              <a:xfrm>
                <a:off x="1587600" y="165744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Line 9"/>
              <p:cNvSpPr/>
              <p:nvPr/>
            </p:nvSpPr>
            <p:spPr>
              <a:xfrm>
                <a:off x="1587600" y="5943600"/>
                <a:ext cx="72388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" name="Line 10"/>
            <p:cNvSpPr/>
            <p:nvPr/>
          </p:nvSpPr>
          <p:spPr>
            <a:xfrm>
              <a:off x="1352520" y="527688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1352520" y="4629240"/>
              <a:ext cx="2286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5" name="Rectangle 12"/>
          <p:cNvSpPr/>
          <p:nvPr/>
        </p:nvSpPr>
        <p:spPr>
          <a:xfrm>
            <a:off x="747000" y="4332240"/>
            <a:ext cx="59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k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1029960" y="6080040"/>
            <a:ext cx="81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% debt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al leverage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00%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1375920" y="3733920"/>
            <a:ext cx="413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3249360" y="2152800"/>
            <a:ext cx="3848760" cy="173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c = cost of 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= cost of d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o = cost of capit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1375920" y="3733920"/>
            <a:ext cx="413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4" name="Group 21"/>
          <p:cNvGrpSpPr/>
          <p:nvPr/>
        </p:nvGrpSpPr>
        <p:grpSpPr>
          <a:xfrm>
            <a:off x="-360" y="1657440"/>
            <a:ext cx="9157320" cy="5002560"/>
            <a:chOff x="-360" y="1657440"/>
            <a:chExt cx="9157320" cy="5002560"/>
          </a:xfrm>
        </p:grpSpPr>
        <p:sp>
          <p:nvSpPr>
            <p:cNvPr id="185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6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187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188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2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72828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16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Rectangle 20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Rectangle 17"/>
          <p:cNvSpPr/>
          <p:nvPr/>
        </p:nvSpPr>
        <p:spPr>
          <a:xfrm>
            <a:off x="1375920" y="3733920"/>
            <a:ext cx="413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-360" y="1657440"/>
            <a:ext cx="9157320" cy="5002560"/>
            <a:chOff x="-360" y="1657440"/>
            <a:chExt cx="9157320" cy="5002560"/>
          </a:xfrm>
        </p:grpSpPr>
        <p:sp>
          <p:nvSpPr>
            <p:cNvPr id="202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03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204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205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8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72828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1676520" y="4572000"/>
              <a:ext cx="6095880" cy="609480"/>
            </a:xfrm>
            <a:prstGeom prst="line">
              <a:avLst/>
            </a:prstGeom>
            <a:ln w="76320">
              <a:solidFill>
                <a:srgbClr val="ffff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21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2016360" y="1152360"/>
            <a:ext cx="54277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creasing leverage causes th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st of equity 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-360" y="1657440"/>
            <a:ext cx="9157320" cy="5002560"/>
            <a:chOff x="-360" y="1657440"/>
            <a:chExt cx="9157320" cy="5002560"/>
          </a:xfrm>
        </p:grpSpPr>
        <p:sp>
          <p:nvSpPr>
            <p:cNvPr id="220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1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222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223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7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72828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Line 18"/>
            <p:cNvSpPr/>
            <p:nvPr/>
          </p:nvSpPr>
          <p:spPr>
            <a:xfrm>
              <a:off x="1676520" y="4572000"/>
              <a:ext cx="6095880" cy="609480"/>
            </a:xfrm>
            <a:prstGeom prst="line">
              <a:avLst/>
            </a:prstGeom>
            <a:ln w="76320">
              <a:solidFill>
                <a:srgbClr val="ffff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6" name="Group 23"/>
          <p:cNvGrpSpPr/>
          <p:nvPr/>
        </p:nvGrpSpPr>
        <p:grpSpPr>
          <a:xfrm>
            <a:off x="-360" y="1152360"/>
            <a:ext cx="9157320" cy="5507640"/>
            <a:chOff x="-360" y="1152360"/>
            <a:chExt cx="9157320" cy="5507640"/>
          </a:xfrm>
        </p:grpSpPr>
        <p:sp>
          <p:nvSpPr>
            <p:cNvPr id="237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239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240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Rectangle 13"/>
            <p:cNvSpPr/>
            <p:nvPr/>
          </p:nvSpPr>
          <p:spPr>
            <a:xfrm>
              <a:off x="72828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 flipV="1">
              <a:off x="1581120" y="1733040"/>
              <a:ext cx="6419880" cy="2876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8060760" y="141912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Rectangle 18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Rectangle 19"/>
            <p:cNvSpPr/>
            <p:nvPr/>
          </p:nvSpPr>
          <p:spPr>
            <a:xfrm>
              <a:off x="2016360" y="1152360"/>
              <a:ext cx="542772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ncreasing leverage causes th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ost of equity t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ise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" name="Rectangle 22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5" name="Group 24"/>
          <p:cNvGrpSpPr/>
          <p:nvPr/>
        </p:nvGrpSpPr>
        <p:grpSpPr>
          <a:xfrm>
            <a:off x="-360" y="1152360"/>
            <a:ext cx="9157320" cy="5507640"/>
            <a:chOff x="-360" y="1152360"/>
            <a:chExt cx="9157320" cy="5507640"/>
          </a:xfrm>
        </p:grpSpPr>
        <p:sp>
          <p:nvSpPr>
            <p:cNvPr id="256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57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258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259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Rectangle 13"/>
            <p:cNvSpPr/>
            <p:nvPr/>
          </p:nvSpPr>
          <p:spPr>
            <a:xfrm>
              <a:off x="72828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Line 16"/>
            <p:cNvSpPr/>
            <p:nvPr/>
          </p:nvSpPr>
          <p:spPr>
            <a:xfrm flipV="1">
              <a:off x="1581120" y="1733040"/>
              <a:ext cx="6419880" cy="2876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Rectangle 17"/>
            <p:cNvSpPr/>
            <p:nvPr/>
          </p:nvSpPr>
          <p:spPr>
            <a:xfrm>
              <a:off x="8060760" y="141912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2016360" y="1152360"/>
              <a:ext cx="542772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ncreasing leverage causes th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st of equity t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e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Rectangle 20"/>
            <p:cNvSpPr/>
            <p:nvPr/>
          </p:nvSpPr>
          <p:spPr>
            <a:xfrm>
              <a:off x="4822200" y="2712960"/>
              <a:ext cx="344628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What will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e the net effec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n the overall cost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capital?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Rectangle 23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16"/>
          <p:cNvSpPr/>
          <p:nvPr/>
        </p:nvSpPr>
        <p:spPr>
          <a:xfrm flipV="1">
            <a:off x="1581120" y="1733040"/>
            <a:ext cx="6419880" cy="287676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360" y="1152360"/>
            <a:ext cx="9156600" cy="5507640"/>
            <a:chOff x="360" y="1152360"/>
            <a:chExt cx="9156600" cy="5507640"/>
          </a:xfrm>
        </p:grpSpPr>
        <p:sp>
          <p:nvSpPr>
            <p:cNvPr id="277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78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279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280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3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84" name="Rectangle 12"/>
            <p:cNvSpPr/>
            <p:nvPr/>
          </p:nvSpPr>
          <p:spPr>
            <a:xfrm>
              <a:off x="747000" y="433224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728640" y="499896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8060760" y="141912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Rectangle 18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Rectangle 19"/>
            <p:cNvSpPr/>
            <p:nvPr/>
          </p:nvSpPr>
          <p:spPr>
            <a:xfrm>
              <a:off x="2016360" y="1152360"/>
              <a:ext cx="542772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Increasing leverage causes th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cost of equity t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e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Rectangle 20"/>
            <p:cNvSpPr/>
            <p:nvPr/>
          </p:nvSpPr>
          <p:spPr>
            <a:xfrm>
              <a:off x="4822200" y="2712960"/>
              <a:ext cx="344628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What will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e the net effec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n the overall cost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of capital?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Line 21"/>
            <p:cNvSpPr/>
            <p:nvPr/>
          </p:nvSpPr>
          <p:spPr>
            <a:xfrm>
              <a:off x="1676520" y="4572000"/>
              <a:ext cx="6095880" cy="609480"/>
            </a:xfrm>
            <a:prstGeom prst="line">
              <a:avLst/>
            </a:prstGeom>
            <a:ln w="76320">
              <a:solidFill>
                <a:srgbClr val="ffff00"/>
              </a:solidFill>
              <a:prstDash val="sysDot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Rectangle 24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747000" y="4332240"/>
            <a:ext cx="59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k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Rectangle 13"/>
          <p:cNvSpPr/>
          <p:nvPr/>
        </p:nvSpPr>
        <p:spPr>
          <a:xfrm>
            <a:off x="728640" y="4998960"/>
            <a:ext cx="636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k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8" name="Group 24"/>
          <p:cNvGrpSpPr/>
          <p:nvPr/>
        </p:nvGrpSpPr>
        <p:grpSpPr>
          <a:xfrm>
            <a:off x="360" y="1419120"/>
            <a:ext cx="9156600" cy="5240880"/>
            <a:chOff x="360" y="1419120"/>
            <a:chExt cx="9156600" cy="5240880"/>
          </a:xfrm>
        </p:grpSpPr>
        <p:sp>
          <p:nvSpPr>
            <p:cNvPr id="299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00" name="Group 6"/>
            <p:cNvGrpSpPr/>
            <p:nvPr/>
          </p:nvGrpSpPr>
          <p:grpSpPr>
            <a:xfrm>
              <a:off x="1352520" y="1657440"/>
              <a:ext cx="7473960" cy="4286160"/>
              <a:chOff x="1352520" y="1657440"/>
              <a:chExt cx="7473960" cy="4286160"/>
            </a:xfrm>
          </p:grpSpPr>
          <p:grpSp>
            <p:nvGrpSpPr>
              <p:cNvPr id="301" name="Group 7"/>
              <p:cNvGrpSpPr/>
              <p:nvPr/>
            </p:nvGrpSpPr>
            <p:grpSpPr>
              <a:xfrm>
                <a:off x="1587600" y="1657440"/>
                <a:ext cx="7238880" cy="4286160"/>
                <a:chOff x="1587600" y="1657440"/>
                <a:chExt cx="7238880" cy="4286160"/>
              </a:xfrm>
            </p:grpSpPr>
            <p:sp>
              <p:nvSpPr>
                <p:cNvPr id="302" name="Line 8"/>
                <p:cNvSpPr/>
                <p:nvPr/>
              </p:nvSpPr>
              <p:spPr>
                <a:xfrm>
                  <a:off x="1587600" y="165744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9"/>
                <p:cNvSpPr/>
                <p:nvPr/>
              </p:nvSpPr>
              <p:spPr>
                <a:xfrm>
                  <a:off x="1587600" y="594360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4" name="Line 10"/>
              <p:cNvSpPr/>
              <p:nvPr/>
            </p:nvSpPr>
            <p:spPr>
              <a:xfrm>
                <a:off x="1352520" y="527688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Line 11"/>
              <p:cNvSpPr/>
              <p:nvPr/>
            </p:nvSpPr>
            <p:spPr>
              <a:xfrm>
                <a:off x="1352520" y="462924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06" name="Line 15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6"/>
            <p:cNvSpPr/>
            <p:nvPr/>
          </p:nvSpPr>
          <p:spPr>
            <a:xfrm>
              <a:off x="1581120" y="4629240"/>
              <a:ext cx="6381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Line 17"/>
            <p:cNvSpPr/>
            <p:nvPr/>
          </p:nvSpPr>
          <p:spPr>
            <a:xfrm flipV="1">
              <a:off x="1581120" y="1733040"/>
              <a:ext cx="6419880" cy="2876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8060760" y="141912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8041320" y="4294080"/>
              <a:ext cx="614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Rectangle 23"/>
            <p:cNvSpPr/>
            <p:nvPr/>
          </p:nvSpPr>
          <p:spPr>
            <a:xfrm>
              <a:off x="1001520" y="6080040"/>
              <a:ext cx="8155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% debt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%deb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we have perfect capital markets,  capital structure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rreleva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other words, changes in capital structure do not affect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irm valu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917720" y="304920"/>
            <a:ext cx="6159600" cy="90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pendence Hypothe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asing leverage does not increase the cost of equit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ince debt is less expensive than equity, more debt financing would provide a lower cost of capital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 lower cost of capital would increase firm valu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1000" y="742680"/>
            <a:ext cx="5581800" cy="61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        Curren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          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bt 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xed           Prefer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holders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Group 5"/>
          <p:cNvGrpSpPr/>
          <p:nvPr/>
        </p:nvGrpSpPr>
        <p:grpSpPr>
          <a:xfrm>
            <a:off x="190440" y="1295280"/>
            <a:ext cx="5181840" cy="5550120"/>
            <a:chOff x="190440" y="1295280"/>
            <a:chExt cx="5181840" cy="5550120"/>
          </a:xfrm>
        </p:grpSpPr>
        <p:sp>
          <p:nvSpPr>
            <p:cNvPr id="114" name="Line 6"/>
            <p:cNvSpPr/>
            <p:nvPr/>
          </p:nvSpPr>
          <p:spPr>
            <a:xfrm>
              <a:off x="190440" y="1295280"/>
              <a:ext cx="514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Line 7"/>
            <p:cNvSpPr/>
            <p:nvPr/>
          </p:nvSpPr>
          <p:spPr>
            <a:xfrm>
              <a:off x="2381400" y="1333440"/>
              <a:ext cx="0" cy="551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Line 8"/>
            <p:cNvSpPr/>
            <p:nvPr/>
          </p:nvSpPr>
          <p:spPr>
            <a:xfrm>
              <a:off x="247680" y="2838600"/>
              <a:ext cx="5124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Line 9"/>
            <p:cNvSpPr/>
            <p:nvPr/>
          </p:nvSpPr>
          <p:spPr>
            <a:xfrm>
              <a:off x="2400480" y="4857840"/>
              <a:ext cx="295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pendence Hypothe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24" name="Group 1046"/>
          <p:cNvGrpSpPr/>
          <p:nvPr/>
        </p:nvGrpSpPr>
        <p:grpSpPr>
          <a:xfrm>
            <a:off x="-360" y="1676520"/>
            <a:ext cx="8890560" cy="5007240"/>
            <a:chOff x="-360" y="1676520"/>
            <a:chExt cx="8890560" cy="5007240"/>
          </a:xfrm>
        </p:grpSpPr>
        <p:sp>
          <p:nvSpPr>
            <p:cNvPr id="325" name="Rectangle 1029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Rectangle 1031"/>
            <p:cNvSpPr/>
            <p:nvPr/>
          </p:nvSpPr>
          <p:spPr>
            <a:xfrm>
              <a:off x="761400" y="312408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Rectangle 1038"/>
            <p:cNvSpPr/>
            <p:nvPr/>
          </p:nvSpPr>
          <p:spPr>
            <a:xfrm>
              <a:off x="728280" y="501804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Rectangle 1039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29" name="Group 1045"/>
            <p:cNvGrpSpPr/>
            <p:nvPr/>
          </p:nvGrpSpPr>
          <p:grpSpPr>
            <a:xfrm>
              <a:off x="1352520" y="1676520"/>
              <a:ext cx="7473960" cy="4286160"/>
              <a:chOff x="1352520" y="1676520"/>
              <a:chExt cx="7473960" cy="4286160"/>
            </a:xfrm>
          </p:grpSpPr>
          <p:grpSp>
            <p:nvGrpSpPr>
              <p:cNvPr id="330" name="Group 1033"/>
              <p:cNvGrpSpPr/>
              <p:nvPr/>
            </p:nvGrpSpPr>
            <p:grpSpPr>
              <a:xfrm>
                <a:off x="1587600" y="1676520"/>
                <a:ext cx="7238880" cy="4286160"/>
                <a:chOff x="1587600" y="1676520"/>
                <a:chExt cx="7238880" cy="4286160"/>
              </a:xfrm>
            </p:grpSpPr>
            <p:sp>
              <p:nvSpPr>
                <p:cNvPr id="331" name="Line 1034"/>
                <p:cNvSpPr/>
                <p:nvPr/>
              </p:nvSpPr>
              <p:spPr>
                <a:xfrm>
                  <a:off x="1587600" y="167652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1035"/>
                <p:cNvSpPr/>
                <p:nvPr/>
              </p:nvSpPr>
              <p:spPr>
                <a:xfrm>
                  <a:off x="1587600" y="5962680"/>
                  <a:ext cx="723888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Line 1036"/>
              <p:cNvSpPr/>
              <p:nvPr/>
            </p:nvSpPr>
            <p:spPr>
              <a:xfrm>
                <a:off x="1352520" y="529596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Line 1037"/>
              <p:cNvSpPr/>
              <p:nvPr/>
            </p:nvSpPr>
            <p:spPr>
              <a:xfrm>
                <a:off x="1366920" y="3429000"/>
                <a:ext cx="2286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Line 1040"/>
              <p:cNvSpPr/>
              <p:nvPr/>
            </p:nvSpPr>
            <p:spPr>
              <a:xfrm>
                <a:off x="1581120" y="5276880"/>
                <a:ext cx="636264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Line 1041"/>
              <p:cNvSpPr/>
              <p:nvPr/>
            </p:nvSpPr>
            <p:spPr>
              <a:xfrm>
                <a:off x="1600200" y="3429000"/>
                <a:ext cx="643896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37" name="Rectangle 1042"/>
            <p:cNvSpPr/>
            <p:nvPr/>
          </p:nvSpPr>
          <p:spPr>
            <a:xfrm>
              <a:off x="8076600" y="304812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" name="Rectangle 1043"/>
            <p:cNvSpPr/>
            <p:nvPr/>
          </p:nvSpPr>
          <p:spPr>
            <a:xfrm>
              <a:off x="804204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9" name="Rectangle 1044"/>
          <p:cNvSpPr/>
          <p:nvPr/>
        </p:nvSpPr>
        <p:spPr>
          <a:xfrm>
            <a:off x="1755720" y="1009800"/>
            <a:ext cx="5924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ince the cost of debt is low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 the cost of equity..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pendence Hypothe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1757160" y="1009800"/>
            <a:ext cx="626436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ince the cost of debt is low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an the cost of equity…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creasing leverage reduces th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st of capital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4" name="Group 23"/>
          <p:cNvGrpSpPr/>
          <p:nvPr/>
        </p:nvGrpSpPr>
        <p:grpSpPr>
          <a:xfrm>
            <a:off x="-360" y="1676520"/>
            <a:ext cx="8890560" cy="5007240"/>
            <a:chOff x="-360" y="1676520"/>
            <a:chExt cx="8890560" cy="5007240"/>
          </a:xfrm>
        </p:grpSpPr>
        <p:grpSp>
          <p:nvGrpSpPr>
            <p:cNvPr id="345" name="Group 5"/>
            <p:cNvGrpSpPr/>
            <p:nvPr/>
          </p:nvGrpSpPr>
          <p:grpSpPr>
            <a:xfrm>
              <a:off x="-360" y="1676520"/>
              <a:ext cx="8890560" cy="5007240"/>
              <a:chOff x="-360" y="1676520"/>
              <a:chExt cx="8890560" cy="500724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-360" y="1724040"/>
                <a:ext cx="1474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Cost of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Capital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" name="Rectangle 7"/>
              <p:cNvSpPr/>
              <p:nvPr/>
            </p:nvSpPr>
            <p:spPr>
              <a:xfrm>
                <a:off x="761400" y="312408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" name="Rectangle 8"/>
              <p:cNvSpPr/>
              <p:nvPr/>
            </p:nvSpPr>
            <p:spPr>
              <a:xfrm>
                <a:off x="728280" y="5018040"/>
                <a:ext cx="63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kd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" name="Rectangle 9"/>
              <p:cNvSpPr/>
              <p:nvPr/>
            </p:nvSpPr>
            <p:spPr>
              <a:xfrm>
                <a:off x="5637240" y="6103800"/>
                <a:ext cx="32529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financial leverag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50" name="Group 10"/>
              <p:cNvGrpSpPr/>
              <p:nvPr/>
            </p:nvGrpSpPr>
            <p:grpSpPr>
              <a:xfrm>
                <a:off x="1352520" y="1676520"/>
                <a:ext cx="7473960" cy="4286160"/>
                <a:chOff x="1352520" y="1676520"/>
                <a:chExt cx="7473960" cy="4286160"/>
              </a:xfrm>
            </p:grpSpPr>
            <p:grpSp>
              <p:nvGrpSpPr>
                <p:cNvPr id="351" name="Group 11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352" name="Line 12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Line 13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Line 14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Line 15"/>
                <p:cNvSpPr/>
                <p:nvPr/>
              </p:nvSpPr>
              <p:spPr>
                <a:xfrm>
                  <a:off x="1366920" y="342900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Line 16"/>
                <p:cNvSpPr/>
                <p:nvPr/>
              </p:nvSpPr>
              <p:spPr>
                <a:xfrm>
                  <a:off x="1581120" y="5276880"/>
                  <a:ext cx="6362640" cy="0"/>
                </a:xfrm>
                <a:prstGeom prst="line">
                  <a:avLst/>
                </a:prstGeom>
                <a:ln w="507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17"/>
                <p:cNvSpPr/>
                <p:nvPr/>
              </p:nvSpPr>
              <p:spPr>
                <a:xfrm>
                  <a:off x="1600200" y="3429000"/>
                  <a:ext cx="6438960" cy="0"/>
                </a:xfrm>
                <a:prstGeom prst="line">
                  <a:avLst/>
                </a:prstGeom>
                <a:ln w="50760">
                  <a:solidFill>
                    <a:srgbClr val="ffcc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Rectangle 18"/>
              <p:cNvSpPr/>
              <p:nvPr/>
            </p:nvSpPr>
            <p:spPr>
              <a:xfrm>
                <a:off x="8076600" y="304812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" name="Rectangle 19"/>
              <p:cNvSpPr/>
              <p:nvPr/>
            </p:nvSpPr>
            <p:spPr>
              <a:xfrm>
                <a:off x="8042040" y="4941720"/>
                <a:ext cx="63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kd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0" name="Line 21"/>
            <p:cNvSpPr/>
            <p:nvPr/>
          </p:nvSpPr>
          <p:spPr>
            <a:xfrm>
              <a:off x="1676520" y="3505320"/>
              <a:ext cx="5943600" cy="1295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1" name="Text Box 22"/>
            <p:cNvSpPr/>
            <p:nvPr/>
          </p:nvSpPr>
          <p:spPr>
            <a:xfrm>
              <a:off x="7621200" y="4495680"/>
              <a:ext cx="61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57150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previous hypothesis examines capital structure in a “perfect market.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moderate position examines capital structure under more realistic condi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r example, what happens if we includ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rporate tax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3908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member this example?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ax effects of financing with deb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593360"/>
            <a:ext cx="845820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stoc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interest expens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3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taxes (34%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136,000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119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A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264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dividen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(50,000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tained earnings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14,000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440" y="1593360"/>
            <a:ext cx="845820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stoc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interest expens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(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3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taxes (34%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136,000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119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A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264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- dividend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(50,000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tained earnings       214,000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Line 6"/>
          <p:cNvSpPr/>
          <p:nvPr/>
        </p:nvSpPr>
        <p:spPr>
          <a:xfrm>
            <a:off x="6172200" y="5943600"/>
            <a:ext cx="1009800" cy="0"/>
          </a:xfrm>
          <a:prstGeom prst="line">
            <a:avLst/>
          </a:prstGeom>
          <a:ln w="76320">
            <a:solidFill>
              <a:srgbClr val="ffff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3908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Remember this example?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Tax effects of financing with debt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Line 17"/>
          <p:cNvSpPr/>
          <p:nvPr/>
        </p:nvSpPr>
        <p:spPr>
          <a:xfrm flipV="1">
            <a:off x="1562040" y="1809360"/>
            <a:ext cx="6705720" cy="230508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7" name="Group 20"/>
          <p:cNvGrpSpPr/>
          <p:nvPr/>
        </p:nvGrpSpPr>
        <p:grpSpPr>
          <a:xfrm>
            <a:off x="360" y="1533600"/>
            <a:ext cx="8889840" cy="5150160"/>
            <a:chOff x="360" y="1533600"/>
            <a:chExt cx="8889840" cy="5150160"/>
          </a:xfrm>
        </p:grpSpPr>
        <p:sp>
          <p:nvSpPr>
            <p:cNvPr id="378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79" name="Group 6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380" name="Rectangle 7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81" name="Group 8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382" name="Group 9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383" name="Line 10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Line 11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Line 12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13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14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Rectangle 15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Line 16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Rectangle 19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Line 17"/>
          <p:cNvSpPr/>
          <p:nvPr/>
        </p:nvSpPr>
        <p:spPr>
          <a:xfrm flipV="1">
            <a:off x="1562040" y="1809360"/>
            <a:ext cx="6705720" cy="230508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6" name="Group 21"/>
          <p:cNvGrpSpPr/>
          <p:nvPr/>
        </p:nvGrpSpPr>
        <p:grpSpPr>
          <a:xfrm>
            <a:off x="360" y="1009800"/>
            <a:ext cx="8889840" cy="5673960"/>
            <a:chOff x="360" y="1009800"/>
            <a:chExt cx="8889840" cy="5673960"/>
          </a:xfrm>
        </p:grpSpPr>
        <p:sp>
          <p:nvSpPr>
            <p:cNvPr id="397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98" name="Group 6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399" name="Rectangle 7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00" name="Group 8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401" name="Group 9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402" name="Line 10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Line 11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4" name="Line 12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Line 13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14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7" name="Rectangle 15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Line 16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Rectangle 20"/>
            <p:cNvSpPr/>
            <p:nvPr/>
          </p:nvSpPr>
          <p:spPr>
            <a:xfrm>
              <a:off x="1755720" y="1009800"/>
              <a:ext cx="60004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ven if the cost of equity rise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s leverage increases, the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st of debt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is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very low..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15" name="Group 22"/>
          <p:cNvGrpSpPr/>
          <p:nvPr/>
        </p:nvGrpSpPr>
        <p:grpSpPr>
          <a:xfrm>
            <a:off x="360" y="1009800"/>
            <a:ext cx="8889840" cy="5673960"/>
            <a:chOff x="360" y="1009800"/>
            <a:chExt cx="8889840" cy="5673960"/>
          </a:xfrm>
        </p:grpSpPr>
        <p:sp>
          <p:nvSpPr>
            <p:cNvPr id="416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17" name="Group 6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418" name="Rectangle 7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19" name="Group 8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420" name="Group 9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421" name="Line 10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Line 11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3" name="Line 12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13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4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6" name="Rectangle 15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Line 16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 flipV="1">
              <a:off x="1562040" y="1809360"/>
              <a:ext cx="6705720" cy="230508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591200" y="3008160"/>
              <a:ext cx="62949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cause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of the 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tax benefi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ssociated with debt financing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1755720" y="1009800"/>
              <a:ext cx="600048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Even if the cost of equity rise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s leverage increases, the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st of debt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 is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very low..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1581120" y="5276880"/>
            <a:ext cx="636264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1562040" y="1809360"/>
            <a:ext cx="6705720" cy="230508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38" name="Group 21"/>
          <p:cNvGrpSpPr/>
          <p:nvPr/>
        </p:nvGrpSpPr>
        <p:grpSpPr>
          <a:xfrm>
            <a:off x="360" y="1371600"/>
            <a:ext cx="8889840" cy="5312160"/>
            <a:chOff x="360" y="1371600"/>
            <a:chExt cx="8889840" cy="5312160"/>
          </a:xfrm>
        </p:grpSpPr>
        <p:sp>
          <p:nvSpPr>
            <p:cNvPr id="439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441" name="Rectangle 7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42" name="Group 8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443" name="Group 9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444" name="Line 10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Line 11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" name="Line 12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Line 13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4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9" name="Rectangle 15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Rectangle 19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Rectangle 20"/>
            <p:cNvSpPr/>
            <p:nvPr/>
          </p:nvSpPr>
          <p:spPr>
            <a:xfrm>
              <a:off x="2137680" y="1371600"/>
              <a:ext cx="42112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 low cost of debt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duces the cost of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apital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241720" y="304920"/>
            <a:ext cx="583560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6" name="Group 23"/>
          <p:cNvGrpSpPr/>
          <p:nvPr/>
        </p:nvGrpSpPr>
        <p:grpSpPr>
          <a:xfrm>
            <a:off x="360" y="1371600"/>
            <a:ext cx="8889840" cy="5312160"/>
            <a:chOff x="360" y="1371600"/>
            <a:chExt cx="8889840" cy="5312160"/>
          </a:xfrm>
        </p:grpSpPr>
        <p:sp>
          <p:nvSpPr>
            <p:cNvPr id="457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8" name="Group 6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459" name="Rectangle 7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60" name="Group 8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461" name="Group 9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462" name="Line 10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Line 11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4" name="Line 12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Line 13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14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" name="Rectangle 15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Line 16"/>
            <p:cNvSpPr/>
            <p:nvPr/>
          </p:nvSpPr>
          <p:spPr>
            <a:xfrm>
              <a:off x="1581120" y="5276880"/>
              <a:ext cx="63626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Line 17"/>
            <p:cNvSpPr/>
            <p:nvPr/>
          </p:nvSpPr>
          <p:spPr>
            <a:xfrm flipV="1">
              <a:off x="1562040" y="1809360"/>
              <a:ext cx="6705720" cy="230508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Rectangle 19"/>
            <p:cNvSpPr/>
            <p:nvPr/>
          </p:nvSpPr>
          <p:spPr>
            <a:xfrm>
              <a:off x="8042400" y="494172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Rectangle 20"/>
            <p:cNvSpPr/>
            <p:nvPr/>
          </p:nvSpPr>
          <p:spPr>
            <a:xfrm>
              <a:off x="2137680" y="1371600"/>
              <a:ext cx="421128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 low cost of debt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reduces the cost of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apital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Line 21"/>
            <p:cNvSpPr/>
            <p:nvPr/>
          </p:nvSpPr>
          <p:spPr>
            <a:xfrm>
              <a:off x="1600200" y="4095720"/>
              <a:ext cx="6343560" cy="704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Rectangle 22"/>
            <p:cNvSpPr/>
            <p:nvPr/>
          </p:nvSpPr>
          <p:spPr>
            <a:xfrm>
              <a:off x="7984440" y="439884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k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1000" y="742680"/>
            <a:ext cx="5581800" cy="61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        Curren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          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bt 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xed           Prefer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holders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190440" y="1295280"/>
            <a:ext cx="5181840" cy="5550120"/>
            <a:chOff x="190440" y="1295280"/>
            <a:chExt cx="5181840" cy="5550120"/>
          </a:xfrm>
        </p:grpSpPr>
        <p:sp>
          <p:nvSpPr>
            <p:cNvPr id="122" name="Line 6"/>
            <p:cNvSpPr/>
            <p:nvPr/>
          </p:nvSpPr>
          <p:spPr>
            <a:xfrm>
              <a:off x="190440" y="1295280"/>
              <a:ext cx="514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2381400" y="1333440"/>
              <a:ext cx="0" cy="551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247680" y="2838600"/>
              <a:ext cx="5124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2400480" y="4857840"/>
              <a:ext cx="295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" name="Oval 10"/>
          <p:cNvSpPr/>
          <p:nvPr/>
        </p:nvSpPr>
        <p:spPr>
          <a:xfrm>
            <a:off x="1778040" y="1244520"/>
            <a:ext cx="4483080" cy="557532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oderate Posi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, what does the tax benefit of debt financing mean for the value of the firm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more debt financing used, the greater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ax benef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and the greater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lue of the firm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, this would mean that all firms should be financed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0% deb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righ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y are firms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o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inanced with 100% deb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0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5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5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5438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hy is 100% Debt not Optimal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nkruptcy cost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costs of financial distres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Financing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becomes difficult to ge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stomers leave due to uncertaint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ssible restructuring o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liquidatio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costs if bankruptcy occu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7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114264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gency cos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costs associated with protecting bondhold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ondholder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(principals) lend money to the firm and expect it to be invested wis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ockholder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own the firm and elect the board and hire managers (agent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ond covenan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require managers to be monitored.  The monitoring expense is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gency cos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which increases as debt incre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Why is 100% Debt not Optimal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84" name="Group 16"/>
          <p:cNvGrpSpPr/>
          <p:nvPr/>
        </p:nvGrpSpPr>
        <p:grpSpPr>
          <a:xfrm>
            <a:off x="360" y="1676520"/>
            <a:ext cx="8889840" cy="5007240"/>
            <a:chOff x="360" y="1676520"/>
            <a:chExt cx="8889840" cy="5007240"/>
          </a:xfrm>
        </p:grpSpPr>
        <p:sp>
          <p:nvSpPr>
            <p:cNvPr id="485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6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7" name="Group 7"/>
            <p:cNvGrpSpPr/>
            <p:nvPr/>
          </p:nvGrpSpPr>
          <p:grpSpPr>
            <a:xfrm>
              <a:off x="728640" y="1676520"/>
              <a:ext cx="8097840" cy="4286160"/>
              <a:chOff x="728640" y="1676520"/>
              <a:chExt cx="8097840" cy="4286160"/>
            </a:xfrm>
          </p:grpSpPr>
          <p:sp>
            <p:nvSpPr>
              <p:cNvPr id="488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89" name="Group 9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grpSp>
              <p:nvGrpSpPr>
                <p:cNvPr id="490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491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Rectangle 15"/>
                <p:cNvSpPr/>
                <p:nvPr/>
              </p:nvSpPr>
              <p:spPr>
                <a:xfrm>
                  <a:off x="72864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8" name="Group 21"/>
          <p:cNvGrpSpPr/>
          <p:nvPr/>
        </p:nvGrpSpPr>
        <p:grpSpPr>
          <a:xfrm>
            <a:off x="360" y="1676520"/>
            <a:ext cx="8889840" cy="5007240"/>
            <a:chOff x="360" y="1676520"/>
            <a:chExt cx="8889840" cy="5007240"/>
          </a:xfrm>
        </p:grpSpPr>
        <p:grpSp>
          <p:nvGrpSpPr>
            <p:cNvPr id="499" name="Group 20"/>
            <p:cNvGrpSpPr/>
            <p:nvPr/>
          </p:nvGrpSpPr>
          <p:grpSpPr>
            <a:xfrm>
              <a:off x="360" y="1676520"/>
              <a:ext cx="8889840" cy="5007240"/>
              <a:chOff x="360" y="1676520"/>
              <a:chExt cx="8889840" cy="5007240"/>
            </a:xfrm>
          </p:grpSpPr>
          <p:sp>
            <p:nvSpPr>
              <p:cNvPr id="500" name="Rectangle 5"/>
              <p:cNvSpPr/>
              <p:nvPr/>
            </p:nvSpPr>
            <p:spPr>
              <a:xfrm>
                <a:off x="360" y="1724040"/>
                <a:ext cx="147420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Cost of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Capital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1" name="Rectangle 6"/>
              <p:cNvSpPr/>
              <p:nvPr/>
            </p:nvSpPr>
            <p:spPr>
              <a:xfrm>
                <a:off x="5637240" y="6103800"/>
                <a:ext cx="32529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financial leverag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02" name="Group 7"/>
              <p:cNvGrpSpPr/>
              <p:nvPr/>
            </p:nvGrpSpPr>
            <p:grpSpPr>
              <a:xfrm>
                <a:off x="728640" y="1676520"/>
                <a:ext cx="8097840" cy="4286160"/>
                <a:chOff x="728640" y="1676520"/>
                <a:chExt cx="8097840" cy="4286160"/>
              </a:xfrm>
            </p:grpSpPr>
            <p:sp>
              <p:nvSpPr>
                <p:cNvPr id="503" name="Rectangle 8"/>
                <p:cNvSpPr/>
                <p:nvPr/>
              </p:nvSpPr>
              <p:spPr>
                <a:xfrm>
                  <a:off x="747000" y="3817800"/>
                  <a:ext cx="5918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Group 9"/>
                <p:cNvGrpSpPr/>
                <p:nvPr/>
              </p:nvGrpSpPr>
              <p:grpSpPr>
                <a:xfrm>
                  <a:off x="728640" y="1676520"/>
                  <a:ext cx="8097840" cy="4286160"/>
                  <a:chOff x="728640" y="1676520"/>
                  <a:chExt cx="8097840" cy="4286160"/>
                </a:xfrm>
              </p:grpSpPr>
              <p:grpSp>
                <p:nvGrpSpPr>
                  <p:cNvPr id="505" name="Group 10"/>
                  <p:cNvGrpSpPr/>
                  <p:nvPr/>
                </p:nvGrpSpPr>
                <p:grpSpPr>
                  <a:xfrm>
                    <a:off x="1587600" y="1676520"/>
                    <a:ext cx="7238880" cy="4286160"/>
                    <a:chOff x="1587600" y="1676520"/>
                    <a:chExt cx="7238880" cy="4286160"/>
                  </a:xfrm>
                </p:grpSpPr>
                <p:sp>
                  <p:nvSpPr>
                    <p:cNvPr id="506" name="Line 11"/>
                    <p:cNvSpPr/>
                    <p:nvPr/>
                  </p:nvSpPr>
                  <p:spPr>
                    <a:xfrm>
                      <a:off x="1587600" y="1676520"/>
                      <a:ext cx="0" cy="428616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Line 12"/>
                    <p:cNvSpPr/>
                    <p:nvPr/>
                  </p:nvSpPr>
                  <p:spPr>
                    <a:xfrm>
                      <a:off x="1587600" y="5962680"/>
                      <a:ext cx="7238880" cy="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" name="Line 13"/>
                  <p:cNvSpPr/>
                  <p:nvPr/>
                </p:nvSpPr>
                <p:spPr>
                  <a:xfrm>
                    <a:off x="1352520" y="529596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Line 14"/>
                  <p:cNvSpPr/>
                  <p:nvPr/>
                </p:nvSpPr>
                <p:spPr>
                  <a:xfrm>
                    <a:off x="1352520" y="413388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Rectangle 15"/>
                  <p:cNvSpPr/>
                  <p:nvPr/>
                </p:nvSpPr>
                <p:spPr>
                  <a:xfrm>
                    <a:off x="728640" y="5018040"/>
                    <a:ext cx="63612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kd</a:t>
                    </a: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11" name="Line 16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Rectangle 17"/>
            <p:cNvSpPr/>
            <p:nvPr/>
          </p:nvSpPr>
          <p:spPr>
            <a:xfrm>
              <a:off x="7536960" y="472284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6" name="Group 22"/>
          <p:cNvGrpSpPr/>
          <p:nvPr/>
        </p:nvGrpSpPr>
        <p:grpSpPr>
          <a:xfrm>
            <a:off x="-360" y="1676520"/>
            <a:ext cx="8964000" cy="5007240"/>
            <a:chOff x="-360" y="1676520"/>
            <a:chExt cx="8964000" cy="5007240"/>
          </a:xfrm>
        </p:grpSpPr>
        <p:sp>
          <p:nvSpPr>
            <p:cNvPr id="517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8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19" name="Group 7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520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21" name="Group 9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522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523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5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Rectangle 15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8" name="Line 16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9" name="Rectangle 17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0" name="Line 18"/>
            <p:cNvSpPr/>
            <p:nvPr/>
          </p:nvSpPr>
          <p:spPr>
            <a:xfrm flipV="1">
              <a:off x="7353360" y="4323960"/>
              <a:ext cx="895320" cy="762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1" name="Line 19"/>
            <p:cNvSpPr/>
            <p:nvPr/>
          </p:nvSpPr>
          <p:spPr>
            <a:xfrm>
              <a:off x="6324480" y="3962520"/>
              <a:ext cx="895320" cy="1047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5" name="Group 23"/>
          <p:cNvGrpSpPr/>
          <p:nvPr/>
        </p:nvGrpSpPr>
        <p:grpSpPr>
          <a:xfrm>
            <a:off x="360" y="1676520"/>
            <a:ext cx="8963280" cy="5007240"/>
            <a:chOff x="360" y="1676520"/>
            <a:chExt cx="8963280" cy="5007240"/>
          </a:xfrm>
        </p:grpSpPr>
        <p:sp>
          <p:nvSpPr>
            <p:cNvPr id="536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7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38" name="Group 7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539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40" name="Group 9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541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542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4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15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7" name="Line 16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 flipV="1">
              <a:off x="1562040" y="2838240"/>
              <a:ext cx="5924520" cy="1276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Rectangle 18"/>
            <p:cNvSpPr/>
            <p:nvPr/>
          </p:nvSpPr>
          <p:spPr>
            <a:xfrm>
              <a:off x="7619400" y="220968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Rectangle 19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7353360" y="4323960"/>
              <a:ext cx="895320" cy="762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V="1">
            <a:off x="1600200" y="5086080"/>
            <a:ext cx="5734080" cy="19044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Line 21"/>
          <p:cNvSpPr/>
          <p:nvPr/>
        </p:nvSpPr>
        <p:spPr>
          <a:xfrm flipV="1">
            <a:off x="7353360" y="4323960"/>
            <a:ext cx="895320" cy="76212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7" name="Group 25"/>
          <p:cNvGrpSpPr/>
          <p:nvPr/>
        </p:nvGrpSpPr>
        <p:grpSpPr>
          <a:xfrm>
            <a:off x="360" y="1533600"/>
            <a:ext cx="8963280" cy="5150160"/>
            <a:chOff x="360" y="1533600"/>
            <a:chExt cx="8963280" cy="5150160"/>
          </a:xfrm>
        </p:grpSpPr>
        <p:sp>
          <p:nvSpPr>
            <p:cNvPr id="558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60" name="Group 7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561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62" name="Group 9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563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564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6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15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9" name="Line 17"/>
            <p:cNvSpPr/>
            <p:nvPr/>
          </p:nvSpPr>
          <p:spPr>
            <a:xfrm flipV="1">
              <a:off x="1562040" y="2838240"/>
              <a:ext cx="5924520" cy="1276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0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1" name="Rectangle 19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2" name="Line 20"/>
            <p:cNvSpPr/>
            <p:nvPr/>
          </p:nvSpPr>
          <p:spPr>
            <a:xfrm flipV="1">
              <a:off x="7486560" y="1999800"/>
              <a:ext cx="723960" cy="838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3" name="Line 22"/>
            <p:cNvSpPr/>
            <p:nvPr/>
          </p:nvSpPr>
          <p:spPr>
            <a:xfrm>
              <a:off x="6553080" y="1676520"/>
              <a:ext cx="895320" cy="104760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7" name="Line 16"/>
          <p:cNvSpPr/>
          <p:nvPr/>
        </p:nvSpPr>
        <p:spPr>
          <a:xfrm flipV="1">
            <a:off x="1600200" y="5086080"/>
            <a:ext cx="5734080" cy="19044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Line 17"/>
          <p:cNvSpPr/>
          <p:nvPr/>
        </p:nvSpPr>
        <p:spPr>
          <a:xfrm flipV="1">
            <a:off x="1562040" y="2838240"/>
            <a:ext cx="5924520" cy="12762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Line 20"/>
          <p:cNvSpPr/>
          <p:nvPr/>
        </p:nvSpPr>
        <p:spPr>
          <a:xfrm flipV="1">
            <a:off x="7486560" y="1999800"/>
            <a:ext cx="723960" cy="83844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Line 21"/>
          <p:cNvSpPr/>
          <p:nvPr/>
        </p:nvSpPr>
        <p:spPr>
          <a:xfrm flipV="1">
            <a:off x="7353360" y="4323960"/>
            <a:ext cx="895320" cy="76212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1" name="Group 26"/>
          <p:cNvGrpSpPr/>
          <p:nvPr/>
        </p:nvGrpSpPr>
        <p:grpSpPr>
          <a:xfrm>
            <a:off x="-360" y="1533600"/>
            <a:ext cx="8964000" cy="5150160"/>
            <a:chOff x="-360" y="1533600"/>
            <a:chExt cx="8964000" cy="5150160"/>
          </a:xfrm>
        </p:grpSpPr>
        <p:sp>
          <p:nvSpPr>
            <p:cNvPr id="582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84" name="Group 7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585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86" name="Group 9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587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588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0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15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3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Rectangle 19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Text Box 23"/>
            <p:cNvSpPr/>
            <p:nvPr/>
          </p:nvSpPr>
          <p:spPr>
            <a:xfrm>
              <a:off x="1905120" y="1828800"/>
              <a:ext cx="6118200" cy="20437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f a firm borrows too much, th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osts of debt and equity will spike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upward, due to bankruptcy cost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nd agency costs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9" name="Group 24"/>
          <p:cNvGrpSpPr/>
          <p:nvPr/>
        </p:nvGrpSpPr>
        <p:grpSpPr>
          <a:xfrm>
            <a:off x="360" y="1533600"/>
            <a:ext cx="8963280" cy="5150160"/>
            <a:chOff x="360" y="1533600"/>
            <a:chExt cx="8963280" cy="5150160"/>
          </a:xfrm>
        </p:grpSpPr>
        <p:sp>
          <p:nvSpPr>
            <p:cNvPr id="600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02" name="Group 7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603" name="Rectangle 8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04" name="Group 9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605" name="Group 10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606" name="Line 11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Line 12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8" name="Line 13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14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15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1" name="Line 16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Line 17"/>
            <p:cNvSpPr/>
            <p:nvPr/>
          </p:nvSpPr>
          <p:spPr>
            <a:xfrm flipV="1">
              <a:off x="1562040" y="2838240"/>
              <a:ext cx="5924520" cy="1276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Rectangle 19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Line 20"/>
            <p:cNvSpPr/>
            <p:nvPr/>
          </p:nvSpPr>
          <p:spPr>
            <a:xfrm flipV="1">
              <a:off x="7486560" y="1999800"/>
              <a:ext cx="723960" cy="838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Line 21"/>
            <p:cNvSpPr/>
            <p:nvPr/>
          </p:nvSpPr>
          <p:spPr>
            <a:xfrm flipV="1">
              <a:off x="7353360" y="4323960"/>
              <a:ext cx="895320" cy="762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1778040" y="1244520"/>
            <a:ext cx="4483080" cy="5575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1000" y="742680"/>
            <a:ext cx="5581800" cy="61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bt  a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x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fer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reholders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" name="Group 6"/>
          <p:cNvGrpSpPr/>
          <p:nvPr/>
        </p:nvGrpSpPr>
        <p:grpSpPr>
          <a:xfrm>
            <a:off x="190440" y="1295280"/>
            <a:ext cx="5181840" cy="5550120"/>
            <a:chOff x="190440" y="1295280"/>
            <a:chExt cx="5181840" cy="5550120"/>
          </a:xfrm>
        </p:grpSpPr>
        <p:sp>
          <p:nvSpPr>
            <p:cNvPr id="132" name="Line 7"/>
            <p:cNvSpPr/>
            <p:nvPr/>
          </p:nvSpPr>
          <p:spPr>
            <a:xfrm>
              <a:off x="190440" y="1295280"/>
              <a:ext cx="514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>
              <a:off x="2381400" y="1333440"/>
              <a:ext cx="0" cy="551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>
              <a:off x="247680" y="2838600"/>
              <a:ext cx="5124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Line 10"/>
            <p:cNvSpPr/>
            <p:nvPr/>
          </p:nvSpPr>
          <p:spPr>
            <a:xfrm>
              <a:off x="2400480" y="4857840"/>
              <a:ext cx="295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>
            <a:off x="6441120" y="3241800"/>
            <a:ext cx="2483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Financia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0" name="Group 27"/>
          <p:cNvGrpSpPr/>
          <p:nvPr/>
        </p:nvGrpSpPr>
        <p:grpSpPr>
          <a:xfrm>
            <a:off x="-360" y="1533600"/>
            <a:ext cx="8964000" cy="5150160"/>
            <a:chOff x="-360" y="1533600"/>
            <a:chExt cx="8964000" cy="5150160"/>
          </a:xfrm>
        </p:grpSpPr>
        <p:sp>
          <p:nvSpPr>
            <p:cNvPr id="621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23" name="Group 8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624" name="Rectangle 9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25" name="Group 10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626" name="Group 11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627" name="Line 12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Line 13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29" name="Line 14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Line 15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Rectangle 16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2" name="Line 17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Line 18"/>
            <p:cNvSpPr/>
            <p:nvPr/>
          </p:nvSpPr>
          <p:spPr>
            <a:xfrm flipV="1">
              <a:off x="1562040" y="2838240"/>
              <a:ext cx="5924520" cy="1276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5" name="Rectangle 20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1619280" y="4152960"/>
              <a:ext cx="4552920" cy="514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7" name="Rectangle 22"/>
            <p:cNvSpPr/>
            <p:nvPr/>
          </p:nvSpPr>
          <p:spPr>
            <a:xfrm>
              <a:off x="6212880" y="432288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k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7486560" y="1999800"/>
              <a:ext cx="723960" cy="838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7353360" y="4323960"/>
              <a:ext cx="895320" cy="762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3" name="Group 29"/>
          <p:cNvGrpSpPr/>
          <p:nvPr/>
        </p:nvGrpSpPr>
        <p:grpSpPr>
          <a:xfrm>
            <a:off x="-360" y="1533600"/>
            <a:ext cx="8964000" cy="5150160"/>
            <a:chOff x="-360" y="1533600"/>
            <a:chExt cx="8964000" cy="5150160"/>
          </a:xfrm>
        </p:grpSpPr>
        <p:sp>
          <p:nvSpPr>
            <p:cNvPr id="644" name="Rectangle 5"/>
            <p:cNvSpPr/>
            <p:nvPr/>
          </p:nvSpPr>
          <p:spPr>
            <a:xfrm>
              <a:off x="-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46" name="Group 8"/>
            <p:cNvGrpSpPr/>
            <p:nvPr/>
          </p:nvGrpSpPr>
          <p:grpSpPr>
            <a:xfrm>
              <a:off x="728280" y="1676520"/>
              <a:ext cx="8098200" cy="4286160"/>
              <a:chOff x="728280" y="1676520"/>
              <a:chExt cx="8098200" cy="4286160"/>
            </a:xfrm>
          </p:grpSpPr>
          <p:sp>
            <p:nvSpPr>
              <p:cNvPr id="647" name="Rectangle 9"/>
              <p:cNvSpPr/>
              <p:nvPr/>
            </p:nvSpPr>
            <p:spPr>
              <a:xfrm>
                <a:off x="747000" y="38178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48" name="Group 10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grpSp>
              <p:nvGrpSpPr>
                <p:cNvPr id="649" name="Group 11"/>
                <p:cNvGrpSpPr/>
                <p:nvPr/>
              </p:nvGrpSpPr>
              <p:grpSpPr>
                <a:xfrm>
                  <a:off x="1587600" y="1676520"/>
                  <a:ext cx="7238880" cy="4286160"/>
                  <a:chOff x="1587600" y="1676520"/>
                  <a:chExt cx="7238880" cy="4286160"/>
                </a:xfrm>
              </p:grpSpPr>
              <p:sp>
                <p:nvSpPr>
                  <p:cNvPr id="650" name="Line 12"/>
                  <p:cNvSpPr/>
                  <p:nvPr/>
                </p:nvSpPr>
                <p:spPr>
                  <a:xfrm>
                    <a:off x="1587600" y="1676520"/>
                    <a:ext cx="0" cy="42861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Line 13"/>
                  <p:cNvSpPr/>
                  <p:nvPr/>
                </p:nvSpPr>
                <p:spPr>
                  <a:xfrm>
                    <a:off x="1587600" y="5962680"/>
                    <a:ext cx="723888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2" name="Line 14"/>
                <p:cNvSpPr/>
                <p:nvPr/>
              </p:nvSpPr>
              <p:spPr>
                <a:xfrm>
                  <a:off x="1352520" y="529596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15"/>
                <p:cNvSpPr/>
                <p:nvPr/>
              </p:nvSpPr>
              <p:spPr>
                <a:xfrm>
                  <a:off x="1352520" y="4133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Rectangle 16"/>
                <p:cNvSpPr/>
                <p:nvPr/>
              </p:nvSpPr>
              <p:spPr>
                <a:xfrm>
                  <a:off x="728280" y="5018040"/>
                  <a:ext cx="636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d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5" name="Line 17"/>
            <p:cNvSpPr/>
            <p:nvPr/>
          </p:nvSpPr>
          <p:spPr>
            <a:xfrm flipV="1">
              <a:off x="1600200" y="5086080"/>
              <a:ext cx="573408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 flipV="1">
              <a:off x="1562040" y="2838240"/>
              <a:ext cx="5924520" cy="1276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7" name="Rectangle 19"/>
            <p:cNvSpPr/>
            <p:nvPr/>
          </p:nvSpPr>
          <p:spPr>
            <a:xfrm>
              <a:off x="8251200" y="1533600"/>
              <a:ext cx="5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Rectangle 20"/>
            <p:cNvSpPr/>
            <p:nvPr/>
          </p:nvSpPr>
          <p:spPr>
            <a:xfrm>
              <a:off x="8327520" y="3932280"/>
              <a:ext cx="636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k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Line 21"/>
            <p:cNvSpPr/>
            <p:nvPr/>
          </p:nvSpPr>
          <p:spPr>
            <a:xfrm>
              <a:off x="1619280" y="4152960"/>
              <a:ext cx="4552920" cy="514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0" name="Rectangle 22"/>
            <p:cNvSpPr/>
            <p:nvPr/>
          </p:nvSpPr>
          <p:spPr>
            <a:xfrm>
              <a:off x="8251200" y="3048120"/>
              <a:ext cx="668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ko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 flipV="1">
              <a:off x="7486560" y="1999800"/>
              <a:ext cx="723960" cy="838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 flipV="1">
              <a:off x="7353360" y="4323960"/>
              <a:ext cx="895320" cy="7621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 flipV="1">
              <a:off x="6134040" y="3409920"/>
              <a:ext cx="2114640" cy="127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64" name="Line 26"/>
          <p:cNvSpPr/>
          <p:nvPr/>
        </p:nvSpPr>
        <p:spPr>
          <a:xfrm>
            <a:off x="5562720" y="3657600"/>
            <a:ext cx="533160" cy="914400"/>
          </a:xfrm>
          <a:prstGeom prst="line">
            <a:avLst/>
          </a:prstGeom>
          <a:ln w="7632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8" name="Line 26"/>
          <p:cNvSpPr/>
          <p:nvPr/>
        </p:nvSpPr>
        <p:spPr>
          <a:xfrm>
            <a:off x="5562720" y="3657600"/>
            <a:ext cx="533160" cy="914400"/>
          </a:xfrm>
          <a:prstGeom prst="line">
            <a:avLst/>
          </a:prstGeom>
          <a:ln w="76320">
            <a:solidFill>
              <a:srgbClr val="cc00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9" name="Group 30"/>
          <p:cNvGrpSpPr/>
          <p:nvPr/>
        </p:nvGrpSpPr>
        <p:grpSpPr>
          <a:xfrm>
            <a:off x="360" y="1533600"/>
            <a:ext cx="8963280" cy="5150160"/>
            <a:chOff x="360" y="1533600"/>
            <a:chExt cx="8963280" cy="5150160"/>
          </a:xfrm>
        </p:grpSpPr>
        <p:sp>
          <p:nvSpPr>
            <p:cNvPr id="670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1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72" name="Group 7"/>
            <p:cNvGrpSpPr/>
            <p:nvPr/>
          </p:nvGrpSpPr>
          <p:grpSpPr>
            <a:xfrm>
              <a:off x="728280" y="1533600"/>
              <a:ext cx="8235360" cy="4429080"/>
              <a:chOff x="728280" y="1533600"/>
              <a:chExt cx="8235360" cy="4429080"/>
            </a:xfrm>
          </p:grpSpPr>
          <p:grpSp>
            <p:nvGrpSpPr>
              <p:cNvPr id="673" name="Group 8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sp>
              <p:nvSpPr>
                <p:cNvPr id="674" name="Rectangle 9"/>
                <p:cNvSpPr/>
                <p:nvPr/>
              </p:nvSpPr>
              <p:spPr>
                <a:xfrm>
                  <a:off x="747000" y="3817800"/>
                  <a:ext cx="5918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5" name="Group 10"/>
                <p:cNvGrpSpPr/>
                <p:nvPr/>
              </p:nvGrpSpPr>
              <p:grpSpPr>
                <a:xfrm>
                  <a:off x="728280" y="1676520"/>
                  <a:ext cx="8098200" cy="4286160"/>
                  <a:chOff x="728280" y="1676520"/>
                  <a:chExt cx="8098200" cy="4286160"/>
                </a:xfrm>
              </p:grpSpPr>
              <p:grpSp>
                <p:nvGrpSpPr>
                  <p:cNvPr id="676" name="Group 11"/>
                  <p:cNvGrpSpPr/>
                  <p:nvPr/>
                </p:nvGrpSpPr>
                <p:grpSpPr>
                  <a:xfrm>
                    <a:off x="1587600" y="1676520"/>
                    <a:ext cx="7238880" cy="4286160"/>
                    <a:chOff x="1587600" y="1676520"/>
                    <a:chExt cx="7238880" cy="4286160"/>
                  </a:xfrm>
                </p:grpSpPr>
                <p:sp>
                  <p:nvSpPr>
                    <p:cNvPr id="677" name="Line 12"/>
                    <p:cNvSpPr/>
                    <p:nvPr/>
                  </p:nvSpPr>
                  <p:spPr>
                    <a:xfrm>
                      <a:off x="1587600" y="1676520"/>
                      <a:ext cx="0" cy="428616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Line 13"/>
                    <p:cNvSpPr/>
                    <p:nvPr/>
                  </p:nvSpPr>
                  <p:spPr>
                    <a:xfrm>
                      <a:off x="1587600" y="5962680"/>
                      <a:ext cx="7238880" cy="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9" name="Line 14"/>
                  <p:cNvSpPr/>
                  <p:nvPr/>
                </p:nvSpPr>
                <p:spPr>
                  <a:xfrm>
                    <a:off x="1352520" y="529596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Line 15"/>
                  <p:cNvSpPr/>
                  <p:nvPr/>
                </p:nvSpPr>
                <p:spPr>
                  <a:xfrm>
                    <a:off x="1352520" y="413388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Rectangle 16"/>
                  <p:cNvSpPr/>
                  <p:nvPr/>
                </p:nvSpPr>
                <p:spPr>
                  <a:xfrm>
                    <a:off x="728280" y="5018040"/>
                    <a:ext cx="63612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kd</a:t>
                    </a: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82" name="Line 17"/>
              <p:cNvSpPr/>
              <p:nvPr/>
            </p:nvSpPr>
            <p:spPr>
              <a:xfrm flipV="1">
                <a:off x="1600200" y="5086080"/>
                <a:ext cx="5734080" cy="1904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1562040" y="2838240"/>
                <a:ext cx="5924520" cy="12762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4" name="Rectangle 19"/>
              <p:cNvSpPr/>
              <p:nvPr/>
            </p:nvSpPr>
            <p:spPr>
              <a:xfrm>
                <a:off x="8251200" y="15336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Rectangle 20"/>
              <p:cNvSpPr/>
              <p:nvPr/>
            </p:nvSpPr>
            <p:spPr>
              <a:xfrm>
                <a:off x="8327520" y="3932280"/>
                <a:ext cx="63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d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>
                <a:off x="1619280" y="4152960"/>
                <a:ext cx="4552920" cy="5144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Rectangle 22"/>
              <p:cNvSpPr/>
              <p:nvPr/>
            </p:nvSpPr>
            <p:spPr>
              <a:xfrm>
                <a:off x="8251200" y="3048120"/>
                <a:ext cx="6681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ko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7486560" y="1999800"/>
                <a:ext cx="723960" cy="8384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9" name="Line 24"/>
              <p:cNvSpPr/>
              <p:nvPr/>
            </p:nvSpPr>
            <p:spPr>
              <a:xfrm flipV="1">
                <a:off x="7353360" y="4323960"/>
                <a:ext cx="895320" cy="7621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Line 25"/>
              <p:cNvSpPr/>
              <p:nvPr/>
            </p:nvSpPr>
            <p:spPr>
              <a:xfrm flipV="1">
                <a:off x="6134040" y="3409920"/>
                <a:ext cx="2114640" cy="1276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1" name="Text Box 27"/>
            <p:cNvSpPr/>
            <p:nvPr/>
          </p:nvSpPr>
          <p:spPr>
            <a:xfrm>
              <a:off x="1836360" y="1905120"/>
              <a:ext cx="6858720" cy="22885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deally, a firm should use leverage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o obtain their optimum capital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ructure, which will minimize the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irm’s cost of capital.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5" name="Group 30"/>
          <p:cNvGrpSpPr/>
          <p:nvPr/>
        </p:nvGrpSpPr>
        <p:grpSpPr>
          <a:xfrm>
            <a:off x="360" y="1533600"/>
            <a:ext cx="8963280" cy="5150160"/>
            <a:chOff x="360" y="1533600"/>
            <a:chExt cx="8963280" cy="5150160"/>
          </a:xfrm>
        </p:grpSpPr>
        <p:sp>
          <p:nvSpPr>
            <p:cNvPr id="696" name="Rectangle 5"/>
            <p:cNvSpPr/>
            <p:nvPr/>
          </p:nvSpPr>
          <p:spPr>
            <a:xfrm>
              <a:off x="360" y="1724040"/>
              <a:ext cx="14742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ost of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Capita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Rectangle 6"/>
            <p:cNvSpPr/>
            <p:nvPr/>
          </p:nvSpPr>
          <p:spPr>
            <a:xfrm>
              <a:off x="5637240" y="6103800"/>
              <a:ext cx="3252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al leverag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98" name="Group 7"/>
            <p:cNvGrpSpPr/>
            <p:nvPr/>
          </p:nvGrpSpPr>
          <p:grpSpPr>
            <a:xfrm>
              <a:off x="728280" y="1533600"/>
              <a:ext cx="8235360" cy="4429080"/>
              <a:chOff x="728280" y="1533600"/>
              <a:chExt cx="8235360" cy="4429080"/>
            </a:xfrm>
          </p:grpSpPr>
          <p:grpSp>
            <p:nvGrpSpPr>
              <p:cNvPr id="699" name="Group 8"/>
              <p:cNvGrpSpPr/>
              <p:nvPr/>
            </p:nvGrpSpPr>
            <p:grpSpPr>
              <a:xfrm>
                <a:off x="728280" y="1676520"/>
                <a:ext cx="8098200" cy="4286160"/>
                <a:chOff x="728280" y="1676520"/>
                <a:chExt cx="8098200" cy="4286160"/>
              </a:xfrm>
            </p:grpSpPr>
            <p:sp>
              <p:nvSpPr>
                <p:cNvPr id="700" name="Rectangle 9"/>
                <p:cNvSpPr/>
                <p:nvPr/>
              </p:nvSpPr>
              <p:spPr>
                <a:xfrm>
                  <a:off x="747000" y="3817800"/>
                  <a:ext cx="5918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kc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1" name="Group 10"/>
                <p:cNvGrpSpPr/>
                <p:nvPr/>
              </p:nvGrpSpPr>
              <p:grpSpPr>
                <a:xfrm>
                  <a:off x="728280" y="1676520"/>
                  <a:ext cx="8098200" cy="4286160"/>
                  <a:chOff x="728280" y="1676520"/>
                  <a:chExt cx="8098200" cy="4286160"/>
                </a:xfrm>
              </p:grpSpPr>
              <p:grpSp>
                <p:nvGrpSpPr>
                  <p:cNvPr id="702" name="Group 11"/>
                  <p:cNvGrpSpPr/>
                  <p:nvPr/>
                </p:nvGrpSpPr>
                <p:grpSpPr>
                  <a:xfrm>
                    <a:off x="1587600" y="1676520"/>
                    <a:ext cx="7238880" cy="4286160"/>
                    <a:chOff x="1587600" y="1676520"/>
                    <a:chExt cx="7238880" cy="4286160"/>
                  </a:xfrm>
                </p:grpSpPr>
                <p:sp>
                  <p:nvSpPr>
                    <p:cNvPr id="703" name="Line 12"/>
                    <p:cNvSpPr/>
                    <p:nvPr/>
                  </p:nvSpPr>
                  <p:spPr>
                    <a:xfrm>
                      <a:off x="1587600" y="1676520"/>
                      <a:ext cx="0" cy="428616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3"/>
                    <p:cNvSpPr/>
                    <p:nvPr/>
                  </p:nvSpPr>
                  <p:spPr>
                    <a:xfrm>
                      <a:off x="1587600" y="5962680"/>
                      <a:ext cx="7238880" cy="0"/>
                    </a:xfrm>
                    <a:prstGeom prst="line">
                      <a:avLst/>
                    </a:prstGeom>
                    <a:ln w="50760">
                      <a:solidFill>
                        <a:srgbClr val="ff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5" name="Line 14"/>
                  <p:cNvSpPr/>
                  <p:nvPr/>
                </p:nvSpPr>
                <p:spPr>
                  <a:xfrm>
                    <a:off x="1352520" y="529596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Line 15"/>
                  <p:cNvSpPr/>
                  <p:nvPr/>
                </p:nvSpPr>
                <p:spPr>
                  <a:xfrm>
                    <a:off x="1352520" y="4133880"/>
                    <a:ext cx="228600" cy="0"/>
                  </a:xfrm>
                  <a:prstGeom prst="line">
                    <a:avLst/>
                  </a:prstGeom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16"/>
                  <p:cNvSpPr/>
                  <p:nvPr/>
                </p:nvSpPr>
                <p:spPr>
                  <a:xfrm>
                    <a:off x="728280" y="5018040"/>
                    <a:ext cx="636120" cy="57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cc"/>
                        </a:solidFill>
                        <a:latin typeface="Times New Roman"/>
                      </a:rPr>
                      <a:t>kd</a:t>
                    </a:r>
                    <a:endParaRPr b="0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08" name="Line 17"/>
              <p:cNvSpPr/>
              <p:nvPr/>
            </p:nvSpPr>
            <p:spPr>
              <a:xfrm flipV="1">
                <a:off x="1600200" y="5086080"/>
                <a:ext cx="5734080" cy="1904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9" name="Line 18"/>
              <p:cNvSpPr/>
              <p:nvPr/>
            </p:nvSpPr>
            <p:spPr>
              <a:xfrm flipV="1">
                <a:off x="1562040" y="2838240"/>
                <a:ext cx="5924520" cy="12762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0" name="Rectangle 19"/>
              <p:cNvSpPr/>
              <p:nvPr/>
            </p:nvSpPr>
            <p:spPr>
              <a:xfrm>
                <a:off x="8251200" y="1533600"/>
                <a:ext cx="5918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c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Rectangle 20"/>
              <p:cNvSpPr/>
              <p:nvPr/>
            </p:nvSpPr>
            <p:spPr>
              <a:xfrm>
                <a:off x="8327520" y="3932280"/>
                <a:ext cx="636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kd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Line 21"/>
              <p:cNvSpPr/>
              <p:nvPr/>
            </p:nvSpPr>
            <p:spPr>
              <a:xfrm>
                <a:off x="1619280" y="4152960"/>
                <a:ext cx="4552920" cy="5144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Rectangle 22"/>
              <p:cNvSpPr/>
              <p:nvPr/>
            </p:nvSpPr>
            <p:spPr>
              <a:xfrm>
                <a:off x="8251200" y="3048120"/>
                <a:ext cx="6681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ko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4" name="Line 23"/>
              <p:cNvSpPr/>
              <p:nvPr/>
            </p:nvSpPr>
            <p:spPr>
              <a:xfrm flipV="1">
                <a:off x="7486560" y="1999800"/>
                <a:ext cx="723960" cy="8384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5" name="Line 24"/>
              <p:cNvSpPr/>
              <p:nvPr/>
            </p:nvSpPr>
            <p:spPr>
              <a:xfrm flipV="1">
                <a:off x="7353360" y="4323960"/>
                <a:ext cx="895320" cy="7621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6" name="Line 25"/>
              <p:cNvSpPr/>
              <p:nvPr/>
            </p:nvSpPr>
            <p:spPr>
              <a:xfrm flipV="1">
                <a:off x="6134040" y="3409920"/>
                <a:ext cx="2114640" cy="1276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17" name="Line 26"/>
            <p:cNvSpPr/>
            <p:nvPr/>
          </p:nvSpPr>
          <p:spPr>
            <a:xfrm>
              <a:off x="6153120" y="4667400"/>
              <a:ext cx="0" cy="125712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18" name="Line 27"/>
          <p:cNvSpPr/>
          <p:nvPr/>
        </p:nvSpPr>
        <p:spPr>
          <a:xfrm>
            <a:off x="9067680" y="571680"/>
            <a:ext cx="0" cy="378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568520" y="304920"/>
            <a:ext cx="650880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oderate Position</a:t>
            </a:r>
            <a:br>
              <a:rPr sz="36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ith Bankruptcy and Agency Cost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55320" y="304920"/>
            <a:ext cx="7721640" cy="88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Structure Manag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BIT-EPS Analysi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used to help determine whether it would be better to finance a project with debt or equ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55320" y="304920"/>
            <a:ext cx="7721640" cy="88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Structure Manag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BIT-EPS Analysi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used to help determine whether it would be better to finance a project with debt or equ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Rectangle 6"/>
          <p:cNvSpPr/>
          <p:nvPr/>
        </p:nvSpPr>
        <p:spPr>
          <a:xfrm>
            <a:off x="1840680" y="3886200"/>
            <a:ext cx="5653080" cy="11898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  =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EBIT - I)(1 - t) - 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5320" y="304920"/>
            <a:ext cx="7721640" cy="88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Structure Manag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BIT-EPS Analysi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used to help determine whether it would be better to finance a project with debt or equ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3" name="Rectangle 6"/>
          <p:cNvSpPr/>
          <p:nvPr/>
        </p:nvSpPr>
        <p:spPr>
          <a:xfrm>
            <a:off x="1840680" y="3886200"/>
            <a:ext cx="5653080" cy="1189800"/>
          </a:xfrm>
          <a:prstGeom prst="rect">
            <a:avLst/>
          </a:prstGeom>
          <a:solidFill>
            <a:srgbClr val="000066"/>
          </a:soli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  =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EBIT - I)(1 - t) - 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1161000" y="5303880"/>
            <a:ext cx="79909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 = interest expense, P = preferred dividend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 = number of shares of common stock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utstand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634840" y="304560"/>
            <a:ext cx="54421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BIT-EPS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60240" y="1371240"/>
            <a:ext cx="84837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ur firm h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8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shares of common stock outstanding, no debt, and a marginal tax rate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0%.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We nee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6,00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finance a proposed project.  We are considering two op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ll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00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shares of common stock a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per share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rrow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6,000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y issuing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%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bon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88840" y="304560"/>
            <a:ext cx="718848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f we expect EBIT to be $2,000,000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1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ng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 stock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debt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0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 intere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600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4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 taxes (40%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(800,000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560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A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1,2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84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# shares outst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8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$1.2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$1.0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7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7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83908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ng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 stock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debt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,0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 intere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600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,4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 taxes (40%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,600,000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,360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A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2,4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2,04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# shares outst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0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8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$2.4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$2.5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title"/>
          </p:nvPr>
        </p:nvSpPr>
        <p:spPr>
          <a:xfrm>
            <a:off x="888840" y="304560"/>
            <a:ext cx="718848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f we expect EBIT to be $4,000,000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1000" y="742680"/>
            <a:ext cx="5581800" cy="61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        Curren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          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ebt 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xed           Prefer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holders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" name="Group 5"/>
          <p:cNvGrpSpPr/>
          <p:nvPr/>
        </p:nvGrpSpPr>
        <p:grpSpPr>
          <a:xfrm>
            <a:off x="190440" y="1295280"/>
            <a:ext cx="5181840" cy="5550120"/>
            <a:chOff x="190440" y="1295280"/>
            <a:chExt cx="5181840" cy="5550120"/>
          </a:xfrm>
        </p:grpSpPr>
        <p:sp>
          <p:nvSpPr>
            <p:cNvPr id="141" name="Line 6"/>
            <p:cNvSpPr/>
            <p:nvPr/>
          </p:nvSpPr>
          <p:spPr>
            <a:xfrm>
              <a:off x="190440" y="1295280"/>
              <a:ext cx="514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" name="Line 7"/>
            <p:cNvSpPr/>
            <p:nvPr/>
          </p:nvSpPr>
          <p:spPr>
            <a:xfrm>
              <a:off x="2381400" y="1333440"/>
              <a:ext cx="0" cy="551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>
              <a:off x="247680" y="2838600"/>
              <a:ext cx="5124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2400480" y="4857840"/>
              <a:ext cx="295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5" name="Oval 11"/>
          <p:cNvSpPr/>
          <p:nvPr/>
        </p:nvSpPr>
        <p:spPr>
          <a:xfrm>
            <a:off x="2235240" y="2844720"/>
            <a:ext cx="3416400" cy="397512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867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f EBIT is $2,000,000,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common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tock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financing is best.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f EBIT is $4,000,000,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debt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financing is bes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So, now we need to find a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breakeven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BIT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where neither is better than the othe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7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7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Line 4"/>
          <p:cNvSpPr/>
          <p:nvPr/>
        </p:nvSpPr>
        <p:spPr>
          <a:xfrm>
            <a:off x="590400" y="5695920"/>
            <a:ext cx="15264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2305080" y="5753160"/>
            <a:ext cx="0" cy="24768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Line 17"/>
          <p:cNvSpPr/>
          <p:nvPr/>
        </p:nvSpPr>
        <p:spPr>
          <a:xfrm>
            <a:off x="3657600" y="5772240"/>
            <a:ext cx="0" cy="26676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5048280" y="575316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>
            <a:off x="6553080" y="573408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Line 22"/>
          <p:cNvSpPr/>
          <p:nvPr/>
        </p:nvSpPr>
        <p:spPr>
          <a:xfrm>
            <a:off x="552600" y="1581120"/>
            <a:ext cx="20952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533520" y="4495680"/>
            <a:ext cx="228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Line 24"/>
          <p:cNvSpPr/>
          <p:nvPr/>
        </p:nvSpPr>
        <p:spPr>
          <a:xfrm>
            <a:off x="514440" y="3086280"/>
            <a:ext cx="24768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54040" y="304920"/>
            <a:ext cx="662328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f we choose stock financing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61" name="Group 31"/>
          <p:cNvGrpSpPr/>
          <p:nvPr/>
        </p:nvGrpSpPr>
        <p:grpSpPr>
          <a:xfrm>
            <a:off x="1440" y="847800"/>
            <a:ext cx="9131400" cy="5702760"/>
            <a:chOff x="1440" y="847800"/>
            <a:chExt cx="9131400" cy="5702760"/>
          </a:xfrm>
        </p:grpSpPr>
        <p:sp>
          <p:nvSpPr>
            <p:cNvPr id="762" name="Rectangle 5"/>
            <p:cNvSpPr/>
            <p:nvPr/>
          </p:nvSpPr>
          <p:spPr>
            <a:xfrm>
              <a:off x="1440" y="847800"/>
              <a:ext cx="93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P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6"/>
            <p:cNvSpPr/>
            <p:nvPr/>
          </p:nvSpPr>
          <p:spPr>
            <a:xfrm>
              <a:off x="7974720" y="5494320"/>
              <a:ext cx="115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BI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4" name="Line 8"/>
            <p:cNvSpPr/>
            <p:nvPr/>
          </p:nvSpPr>
          <p:spPr>
            <a:xfrm flipV="1">
              <a:off x="755640" y="2514600"/>
              <a:ext cx="5810400" cy="6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5" name="Line 10"/>
            <p:cNvSpPr/>
            <p:nvPr/>
          </p:nvSpPr>
          <p:spPr>
            <a:xfrm flipV="1">
              <a:off x="766800" y="4146480"/>
              <a:ext cx="2898720" cy="7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6" name="Line 11"/>
            <p:cNvSpPr/>
            <p:nvPr/>
          </p:nvSpPr>
          <p:spPr>
            <a:xfrm>
              <a:off x="3657600" y="4127400"/>
              <a:ext cx="0" cy="1650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67" name="Group 12"/>
            <p:cNvGrpSpPr/>
            <p:nvPr/>
          </p:nvGrpSpPr>
          <p:grpSpPr>
            <a:xfrm>
              <a:off x="768240" y="1447920"/>
              <a:ext cx="7239240" cy="4286160"/>
              <a:chOff x="768240" y="1447920"/>
              <a:chExt cx="7239240" cy="4286160"/>
            </a:xfrm>
          </p:grpSpPr>
          <p:sp>
            <p:nvSpPr>
              <p:cNvPr id="768" name="Line 13"/>
              <p:cNvSpPr/>
              <p:nvPr/>
            </p:nvSpPr>
            <p:spPr>
              <a:xfrm>
                <a:off x="768240" y="144792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9" name="Line 14"/>
              <p:cNvSpPr/>
              <p:nvPr/>
            </p:nvSpPr>
            <p:spPr>
              <a:xfrm>
                <a:off x="768240" y="573408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70" name="Line 15"/>
            <p:cNvSpPr/>
            <p:nvPr/>
          </p:nvSpPr>
          <p:spPr>
            <a:xfrm flipV="1">
              <a:off x="762120" y="1504440"/>
              <a:ext cx="7715160" cy="4210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1" name="Rectangle 20"/>
            <p:cNvSpPr/>
            <p:nvPr/>
          </p:nvSpPr>
          <p:spPr>
            <a:xfrm>
              <a:off x="1691280" y="5970600"/>
              <a:ext cx="521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m       $2m       $3m      $4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2" name="Rectangle 21"/>
            <p:cNvSpPr/>
            <p:nvPr/>
          </p:nvSpPr>
          <p:spPr>
            <a:xfrm>
              <a:off x="7320240" y="1685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3" name="Rectangle 25"/>
            <p:cNvSpPr/>
            <p:nvPr/>
          </p:nvSpPr>
          <p:spPr>
            <a:xfrm>
              <a:off x="194400" y="5398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4" name="Rectangle 26"/>
            <p:cNvSpPr/>
            <p:nvPr/>
          </p:nvSpPr>
          <p:spPr>
            <a:xfrm>
              <a:off x="118440" y="1285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Rectangle 27"/>
            <p:cNvSpPr/>
            <p:nvPr/>
          </p:nvSpPr>
          <p:spPr>
            <a:xfrm>
              <a:off x="118440" y="2809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Rectangle 28"/>
            <p:cNvSpPr/>
            <p:nvPr/>
          </p:nvSpPr>
          <p:spPr>
            <a:xfrm>
              <a:off x="156600" y="4213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>
              <a:off x="6553080" y="2590920"/>
              <a:ext cx="0" cy="31240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364760" y="50400"/>
            <a:ext cx="4426200" cy="11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f we choose </a:t>
            </a:r>
            <a:br>
              <a:rPr sz="3600"/>
            </a:b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bond financing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1" name="Line 12"/>
          <p:cNvSpPr/>
          <p:nvPr/>
        </p:nvSpPr>
        <p:spPr>
          <a:xfrm flipV="1">
            <a:off x="1905120" y="971640"/>
            <a:ext cx="6248160" cy="47433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2" name="Group 15"/>
          <p:cNvGrpSpPr/>
          <p:nvPr/>
        </p:nvGrpSpPr>
        <p:grpSpPr>
          <a:xfrm>
            <a:off x="514440" y="1447920"/>
            <a:ext cx="7493040" cy="4591080"/>
            <a:chOff x="514440" y="1447920"/>
            <a:chExt cx="7493040" cy="4591080"/>
          </a:xfrm>
        </p:grpSpPr>
        <p:sp>
          <p:nvSpPr>
            <p:cNvPr id="783" name="Line 16"/>
            <p:cNvSpPr/>
            <p:nvPr/>
          </p:nvSpPr>
          <p:spPr>
            <a:xfrm>
              <a:off x="590400" y="5695920"/>
              <a:ext cx="15264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84" name="Group 17"/>
            <p:cNvGrpSpPr/>
            <p:nvPr/>
          </p:nvGrpSpPr>
          <p:grpSpPr>
            <a:xfrm>
              <a:off x="768240" y="1447920"/>
              <a:ext cx="7239240" cy="4286160"/>
              <a:chOff x="768240" y="1447920"/>
              <a:chExt cx="7239240" cy="4286160"/>
            </a:xfrm>
          </p:grpSpPr>
          <p:sp>
            <p:nvSpPr>
              <p:cNvPr id="785" name="Line 18"/>
              <p:cNvSpPr/>
              <p:nvPr/>
            </p:nvSpPr>
            <p:spPr>
              <a:xfrm>
                <a:off x="768240" y="144792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Line 19"/>
              <p:cNvSpPr/>
              <p:nvPr/>
            </p:nvSpPr>
            <p:spPr>
              <a:xfrm>
                <a:off x="768240" y="573408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87" name="Line 20"/>
            <p:cNvSpPr/>
            <p:nvPr/>
          </p:nvSpPr>
          <p:spPr>
            <a:xfrm>
              <a:off x="2305080" y="5753160"/>
              <a:ext cx="0" cy="24768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Line 21"/>
            <p:cNvSpPr/>
            <p:nvPr/>
          </p:nvSpPr>
          <p:spPr>
            <a:xfrm>
              <a:off x="3657600" y="5772240"/>
              <a:ext cx="0" cy="26676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5048280" y="5753160"/>
              <a:ext cx="0" cy="2858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>
              <a:off x="6553080" y="5734080"/>
              <a:ext cx="0" cy="28584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Line 24"/>
            <p:cNvSpPr/>
            <p:nvPr/>
          </p:nvSpPr>
          <p:spPr>
            <a:xfrm>
              <a:off x="552600" y="1581120"/>
              <a:ext cx="20952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533520" y="4495680"/>
              <a:ext cx="22860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514440" y="3086280"/>
              <a:ext cx="24768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94" name="Group 32"/>
          <p:cNvGrpSpPr/>
          <p:nvPr/>
        </p:nvGrpSpPr>
        <p:grpSpPr>
          <a:xfrm>
            <a:off x="1440" y="77760"/>
            <a:ext cx="9130680" cy="6472800"/>
            <a:chOff x="1440" y="77760"/>
            <a:chExt cx="9130680" cy="6472800"/>
          </a:xfrm>
        </p:grpSpPr>
        <p:sp>
          <p:nvSpPr>
            <p:cNvPr id="795" name="Rectangle 5"/>
            <p:cNvSpPr/>
            <p:nvPr/>
          </p:nvSpPr>
          <p:spPr>
            <a:xfrm>
              <a:off x="1440" y="847800"/>
              <a:ext cx="93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P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Rectangle 6"/>
            <p:cNvSpPr/>
            <p:nvPr/>
          </p:nvSpPr>
          <p:spPr>
            <a:xfrm>
              <a:off x="7974720" y="5494320"/>
              <a:ext cx="115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BI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731880" y="2197080"/>
              <a:ext cx="5815080" cy="3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8" name="Line 10"/>
            <p:cNvSpPr/>
            <p:nvPr/>
          </p:nvSpPr>
          <p:spPr>
            <a:xfrm>
              <a:off x="774720" y="4394160"/>
              <a:ext cx="2882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9" name="Line 11"/>
            <p:cNvSpPr/>
            <p:nvPr/>
          </p:nvSpPr>
          <p:spPr>
            <a:xfrm>
              <a:off x="3657600" y="4381560"/>
              <a:ext cx="0" cy="137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0" name="Rectangle 13"/>
            <p:cNvSpPr/>
            <p:nvPr/>
          </p:nvSpPr>
          <p:spPr>
            <a:xfrm>
              <a:off x="1691280" y="5970600"/>
              <a:ext cx="521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m       $2m       $3m      $4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1" name="Rectangle 14"/>
            <p:cNvSpPr/>
            <p:nvPr/>
          </p:nvSpPr>
          <p:spPr>
            <a:xfrm>
              <a:off x="6272280" y="7776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on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Rectangle 27"/>
            <p:cNvSpPr/>
            <p:nvPr/>
          </p:nvSpPr>
          <p:spPr>
            <a:xfrm>
              <a:off x="194400" y="5398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Rectangle 28"/>
            <p:cNvSpPr/>
            <p:nvPr/>
          </p:nvSpPr>
          <p:spPr>
            <a:xfrm>
              <a:off x="118440" y="1285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Rectangle 29"/>
            <p:cNvSpPr/>
            <p:nvPr/>
          </p:nvSpPr>
          <p:spPr>
            <a:xfrm>
              <a:off x="118440" y="2809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Rectangle 30"/>
            <p:cNvSpPr/>
            <p:nvPr/>
          </p:nvSpPr>
          <p:spPr>
            <a:xfrm>
              <a:off x="156600" y="4213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Line 31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364760" y="50400"/>
            <a:ext cx="47372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0" name="Line 5"/>
          <p:cNvSpPr/>
          <p:nvPr/>
        </p:nvSpPr>
        <p:spPr>
          <a:xfrm>
            <a:off x="590400" y="5695920"/>
            <a:ext cx="15264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11" name="Group 11"/>
          <p:cNvGrpSpPr/>
          <p:nvPr/>
        </p:nvGrpSpPr>
        <p:grpSpPr>
          <a:xfrm>
            <a:off x="768240" y="1447920"/>
            <a:ext cx="7239240" cy="4286160"/>
            <a:chOff x="768240" y="1447920"/>
            <a:chExt cx="7239240" cy="4286160"/>
          </a:xfrm>
        </p:grpSpPr>
        <p:sp>
          <p:nvSpPr>
            <p:cNvPr id="812" name="Line 12"/>
            <p:cNvSpPr/>
            <p:nvPr/>
          </p:nvSpPr>
          <p:spPr>
            <a:xfrm>
              <a:off x="768240" y="1447920"/>
              <a:ext cx="0" cy="42861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Line 13"/>
            <p:cNvSpPr/>
            <p:nvPr/>
          </p:nvSpPr>
          <p:spPr>
            <a:xfrm>
              <a:off x="768240" y="5734080"/>
              <a:ext cx="7239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4" name="Line 16"/>
          <p:cNvSpPr/>
          <p:nvPr/>
        </p:nvSpPr>
        <p:spPr>
          <a:xfrm>
            <a:off x="2305080" y="5753160"/>
            <a:ext cx="0" cy="24768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Line 17"/>
          <p:cNvSpPr/>
          <p:nvPr/>
        </p:nvSpPr>
        <p:spPr>
          <a:xfrm>
            <a:off x="3657600" y="5772240"/>
            <a:ext cx="0" cy="26676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Line 18"/>
          <p:cNvSpPr/>
          <p:nvPr/>
        </p:nvSpPr>
        <p:spPr>
          <a:xfrm>
            <a:off x="5048280" y="575316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Line 19"/>
          <p:cNvSpPr/>
          <p:nvPr/>
        </p:nvSpPr>
        <p:spPr>
          <a:xfrm>
            <a:off x="6553080" y="573408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Line 23"/>
          <p:cNvSpPr/>
          <p:nvPr/>
        </p:nvSpPr>
        <p:spPr>
          <a:xfrm>
            <a:off x="552600" y="1581120"/>
            <a:ext cx="20952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9" name="Line 24"/>
          <p:cNvSpPr/>
          <p:nvPr/>
        </p:nvSpPr>
        <p:spPr>
          <a:xfrm>
            <a:off x="533520" y="4495680"/>
            <a:ext cx="228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Line 25"/>
          <p:cNvSpPr/>
          <p:nvPr/>
        </p:nvSpPr>
        <p:spPr>
          <a:xfrm>
            <a:off x="514440" y="3086280"/>
            <a:ext cx="24768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30"/>
          <p:cNvGrpSpPr/>
          <p:nvPr/>
        </p:nvGrpSpPr>
        <p:grpSpPr>
          <a:xfrm>
            <a:off x="1440" y="77760"/>
            <a:ext cx="9131400" cy="6472800"/>
            <a:chOff x="1440" y="77760"/>
            <a:chExt cx="9131400" cy="6472800"/>
          </a:xfrm>
        </p:grpSpPr>
        <p:sp>
          <p:nvSpPr>
            <p:cNvPr id="822" name="Rectangle 6"/>
            <p:cNvSpPr/>
            <p:nvPr/>
          </p:nvSpPr>
          <p:spPr>
            <a:xfrm>
              <a:off x="1440" y="847800"/>
              <a:ext cx="93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P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7974720" y="5494320"/>
              <a:ext cx="115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BI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Line 9"/>
            <p:cNvSpPr/>
            <p:nvPr/>
          </p:nvSpPr>
          <p:spPr>
            <a:xfrm>
              <a:off x="743040" y="3390840"/>
              <a:ext cx="4286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5" name="Line 10"/>
            <p:cNvSpPr/>
            <p:nvPr/>
          </p:nvSpPr>
          <p:spPr>
            <a:xfrm>
              <a:off x="5029200" y="3352680"/>
              <a:ext cx="0" cy="2381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1905120" y="971640"/>
              <a:ext cx="6248160" cy="4743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762120" y="1504440"/>
              <a:ext cx="7715160" cy="4210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Rectangle 20"/>
            <p:cNvSpPr/>
            <p:nvPr/>
          </p:nvSpPr>
          <p:spPr>
            <a:xfrm>
              <a:off x="1691280" y="5970600"/>
              <a:ext cx="521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m       $2m       $3m      $4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Rectangle 21"/>
            <p:cNvSpPr/>
            <p:nvPr/>
          </p:nvSpPr>
          <p:spPr>
            <a:xfrm>
              <a:off x="6272280" y="7776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on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Rectangle 22"/>
            <p:cNvSpPr/>
            <p:nvPr/>
          </p:nvSpPr>
          <p:spPr>
            <a:xfrm>
              <a:off x="7320240" y="1685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Rectangle 26"/>
            <p:cNvSpPr/>
            <p:nvPr/>
          </p:nvSpPr>
          <p:spPr>
            <a:xfrm>
              <a:off x="194400" y="5398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Rectangle 27"/>
            <p:cNvSpPr/>
            <p:nvPr/>
          </p:nvSpPr>
          <p:spPr>
            <a:xfrm>
              <a:off x="118440" y="1285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Rectangle 28"/>
            <p:cNvSpPr/>
            <p:nvPr/>
          </p:nvSpPr>
          <p:spPr>
            <a:xfrm>
              <a:off x="118440" y="2809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Rectangle 29"/>
            <p:cNvSpPr/>
            <p:nvPr/>
          </p:nvSpPr>
          <p:spPr>
            <a:xfrm>
              <a:off x="156600" y="4213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997000" y="304920"/>
            <a:ext cx="50799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Poi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t 2 EPS calculations equal to each other and solve for EBI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Financing            Debt Financ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=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(1-t) - 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                                       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8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8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997000" y="304920"/>
            <a:ext cx="50799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Poi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-360" y="1638000"/>
            <a:ext cx="9124920" cy="46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Financing            Debt Financ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=   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(1-t) - 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                                       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0) (1-.40)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600,000)(1-.4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800,000+200,000                   800,00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997000" y="304920"/>
            <a:ext cx="50799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Poi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-360" y="1257120"/>
            <a:ext cx="9124920" cy="55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Financing            Debt Financing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.6 EBI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=   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.6 EBIT - 36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                                   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48 EBIT     =       .6 EBIT - 36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12 EBIT     =              36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BIT = $3,0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8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364760" y="50400"/>
            <a:ext cx="47372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0" name="Line 5"/>
          <p:cNvSpPr/>
          <p:nvPr/>
        </p:nvSpPr>
        <p:spPr>
          <a:xfrm>
            <a:off x="590400" y="5695920"/>
            <a:ext cx="15264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1" name="Group 11"/>
          <p:cNvGrpSpPr/>
          <p:nvPr/>
        </p:nvGrpSpPr>
        <p:grpSpPr>
          <a:xfrm>
            <a:off x="768240" y="1447920"/>
            <a:ext cx="7239240" cy="4286160"/>
            <a:chOff x="768240" y="1447920"/>
            <a:chExt cx="7239240" cy="4286160"/>
          </a:xfrm>
        </p:grpSpPr>
        <p:sp>
          <p:nvSpPr>
            <p:cNvPr id="852" name="Line 12"/>
            <p:cNvSpPr/>
            <p:nvPr/>
          </p:nvSpPr>
          <p:spPr>
            <a:xfrm>
              <a:off x="768240" y="1447920"/>
              <a:ext cx="0" cy="42861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3" name="Line 13"/>
            <p:cNvSpPr/>
            <p:nvPr/>
          </p:nvSpPr>
          <p:spPr>
            <a:xfrm>
              <a:off x="768240" y="5734080"/>
              <a:ext cx="7239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54" name="Line 16"/>
          <p:cNvSpPr/>
          <p:nvPr/>
        </p:nvSpPr>
        <p:spPr>
          <a:xfrm>
            <a:off x="2305080" y="5753160"/>
            <a:ext cx="0" cy="24768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5" name="Line 17"/>
          <p:cNvSpPr/>
          <p:nvPr/>
        </p:nvSpPr>
        <p:spPr>
          <a:xfrm>
            <a:off x="3657600" y="5772240"/>
            <a:ext cx="0" cy="26676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Line 18"/>
          <p:cNvSpPr/>
          <p:nvPr/>
        </p:nvSpPr>
        <p:spPr>
          <a:xfrm>
            <a:off x="5048280" y="575316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Line 19"/>
          <p:cNvSpPr/>
          <p:nvPr/>
        </p:nvSpPr>
        <p:spPr>
          <a:xfrm>
            <a:off x="6553080" y="573408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Line 23"/>
          <p:cNvSpPr/>
          <p:nvPr/>
        </p:nvSpPr>
        <p:spPr>
          <a:xfrm>
            <a:off x="552600" y="1581120"/>
            <a:ext cx="20952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Line 24"/>
          <p:cNvSpPr/>
          <p:nvPr/>
        </p:nvSpPr>
        <p:spPr>
          <a:xfrm>
            <a:off x="533520" y="4495680"/>
            <a:ext cx="228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Line 25"/>
          <p:cNvSpPr/>
          <p:nvPr/>
        </p:nvSpPr>
        <p:spPr>
          <a:xfrm>
            <a:off x="514440" y="3086280"/>
            <a:ext cx="24768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61" name="Group 31"/>
          <p:cNvGrpSpPr/>
          <p:nvPr/>
        </p:nvGrpSpPr>
        <p:grpSpPr>
          <a:xfrm>
            <a:off x="1440" y="77760"/>
            <a:ext cx="9131400" cy="6472800"/>
            <a:chOff x="1440" y="77760"/>
            <a:chExt cx="9131400" cy="6472800"/>
          </a:xfrm>
        </p:grpSpPr>
        <p:sp>
          <p:nvSpPr>
            <p:cNvPr id="862" name="Rectangle 6"/>
            <p:cNvSpPr/>
            <p:nvPr/>
          </p:nvSpPr>
          <p:spPr>
            <a:xfrm>
              <a:off x="1440" y="847800"/>
              <a:ext cx="93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P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3" name="Rectangle 7"/>
            <p:cNvSpPr/>
            <p:nvPr/>
          </p:nvSpPr>
          <p:spPr>
            <a:xfrm>
              <a:off x="7974720" y="5494320"/>
              <a:ext cx="115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BI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4" name="Line 9"/>
            <p:cNvSpPr/>
            <p:nvPr/>
          </p:nvSpPr>
          <p:spPr>
            <a:xfrm>
              <a:off x="743040" y="3390840"/>
              <a:ext cx="4286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5" name="Line 10"/>
            <p:cNvSpPr/>
            <p:nvPr/>
          </p:nvSpPr>
          <p:spPr>
            <a:xfrm>
              <a:off x="5029200" y="3352680"/>
              <a:ext cx="0" cy="2381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6" name="Line 14"/>
            <p:cNvSpPr/>
            <p:nvPr/>
          </p:nvSpPr>
          <p:spPr>
            <a:xfrm flipV="1">
              <a:off x="1905120" y="971640"/>
              <a:ext cx="6248160" cy="4743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7" name="Line 15"/>
            <p:cNvSpPr/>
            <p:nvPr/>
          </p:nvSpPr>
          <p:spPr>
            <a:xfrm flipV="1">
              <a:off x="762120" y="1504440"/>
              <a:ext cx="7715160" cy="4210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8" name="Rectangle 20"/>
            <p:cNvSpPr/>
            <p:nvPr/>
          </p:nvSpPr>
          <p:spPr>
            <a:xfrm>
              <a:off x="1691280" y="5970600"/>
              <a:ext cx="521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m       $2m       $3m      $4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9" name="Rectangle 21"/>
            <p:cNvSpPr/>
            <p:nvPr/>
          </p:nvSpPr>
          <p:spPr>
            <a:xfrm>
              <a:off x="6272280" y="7776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on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0" name="Rectangle 22"/>
            <p:cNvSpPr/>
            <p:nvPr/>
          </p:nvSpPr>
          <p:spPr>
            <a:xfrm>
              <a:off x="7320240" y="1685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194400" y="5398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118440" y="1285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118440" y="2809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156600" y="4213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1085040" y="1590840"/>
              <a:ext cx="4822560" cy="106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For EBIT up to $3 million,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tock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 financing is best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364760" y="50400"/>
            <a:ext cx="47372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9" name="Line 5"/>
          <p:cNvSpPr/>
          <p:nvPr/>
        </p:nvSpPr>
        <p:spPr>
          <a:xfrm>
            <a:off x="590400" y="5695920"/>
            <a:ext cx="15264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0" name="Group 11"/>
          <p:cNvGrpSpPr/>
          <p:nvPr/>
        </p:nvGrpSpPr>
        <p:grpSpPr>
          <a:xfrm>
            <a:off x="768240" y="1447920"/>
            <a:ext cx="7239240" cy="4286160"/>
            <a:chOff x="768240" y="1447920"/>
            <a:chExt cx="7239240" cy="4286160"/>
          </a:xfrm>
        </p:grpSpPr>
        <p:sp>
          <p:nvSpPr>
            <p:cNvPr id="881" name="Line 12"/>
            <p:cNvSpPr/>
            <p:nvPr/>
          </p:nvSpPr>
          <p:spPr>
            <a:xfrm>
              <a:off x="768240" y="1447920"/>
              <a:ext cx="0" cy="42861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2" name="Line 13"/>
            <p:cNvSpPr/>
            <p:nvPr/>
          </p:nvSpPr>
          <p:spPr>
            <a:xfrm>
              <a:off x="768240" y="5734080"/>
              <a:ext cx="7239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83" name="Line 16"/>
          <p:cNvSpPr/>
          <p:nvPr/>
        </p:nvSpPr>
        <p:spPr>
          <a:xfrm>
            <a:off x="2305080" y="5753160"/>
            <a:ext cx="0" cy="24768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3657600" y="5772240"/>
            <a:ext cx="0" cy="26676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5048280" y="575316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Line 19"/>
          <p:cNvSpPr/>
          <p:nvPr/>
        </p:nvSpPr>
        <p:spPr>
          <a:xfrm>
            <a:off x="6553080" y="5734080"/>
            <a:ext cx="0" cy="28584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Line 23"/>
          <p:cNvSpPr/>
          <p:nvPr/>
        </p:nvSpPr>
        <p:spPr>
          <a:xfrm>
            <a:off x="552600" y="1581120"/>
            <a:ext cx="20952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Line 24"/>
          <p:cNvSpPr/>
          <p:nvPr/>
        </p:nvSpPr>
        <p:spPr>
          <a:xfrm>
            <a:off x="533520" y="4495680"/>
            <a:ext cx="22860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9" name="Line 25"/>
          <p:cNvSpPr/>
          <p:nvPr/>
        </p:nvSpPr>
        <p:spPr>
          <a:xfrm>
            <a:off x="514440" y="3086280"/>
            <a:ext cx="247680" cy="0"/>
          </a:xfrm>
          <a:prstGeom prst="line">
            <a:avLst/>
          </a:prstGeom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90" name="Group 32"/>
          <p:cNvGrpSpPr/>
          <p:nvPr/>
        </p:nvGrpSpPr>
        <p:grpSpPr>
          <a:xfrm>
            <a:off x="1440" y="77760"/>
            <a:ext cx="9131400" cy="6472800"/>
            <a:chOff x="1440" y="77760"/>
            <a:chExt cx="9131400" cy="6472800"/>
          </a:xfrm>
        </p:grpSpPr>
        <p:sp>
          <p:nvSpPr>
            <p:cNvPr id="891" name="Rectangle 6"/>
            <p:cNvSpPr/>
            <p:nvPr/>
          </p:nvSpPr>
          <p:spPr>
            <a:xfrm>
              <a:off x="1440" y="847800"/>
              <a:ext cx="930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P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2" name="Rectangle 7"/>
            <p:cNvSpPr/>
            <p:nvPr/>
          </p:nvSpPr>
          <p:spPr>
            <a:xfrm>
              <a:off x="7974720" y="5494320"/>
              <a:ext cx="115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EBI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3" name="Line 9"/>
            <p:cNvSpPr/>
            <p:nvPr/>
          </p:nvSpPr>
          <p:spPr>
            <a:xfrm>
              <a:off x="743040" y="3390840"/>
              <a:ext cx="42861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4" name="Line 10"/>
            <p:cNvSpPr/>
            <p:nvPr/>
          </p:nvSpPr>
          <p:spPr>
            <a:xfrm>
              <a:off x="5029200" y="3352680"/>
              <a:ext cx="0" cy="2381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5" name="Line 14"/>
            <p:cNvSpPr/>
            <p:nvPr/>
          </p:nvSpPr>
          <p:spPr>
            <a:xfrm flipV="1">
              <a:off x="1905120" y="971640"/>
              <a:ext cx="6248160" cy="4743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6" name="Line 15"/>
            <p:cNvSpPr/>
            <p:nvPr/>
          </p:nvSpPr>
          <p:spPr>
            <a:xfrm flipV="1">
              <a:off x="762120" y="1504440"/>
              <a:ext cx="7715160" cy="42102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7" name="Rectangle 20"/>
            <p:cNvSpPr/>
            <p:nvPr/>
          </p:nvSpPr>
          <p:spPr>
            <a:xfrm>
              <a:off x="1691280" y="5970600"/>
              <a:ext cx="52142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1m       $2m       $3m      $4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Rectangle 21"/>
            <p:cNvSpPr/>
            <p:nvPr/>
          </p:nvSpPr>
          <p:spPr>
            <a:xfrm>
              <a:off x="6272280" y="7776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on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9" name="Rectangle 22"/>
            <p:cNvSpPr/>
            <p:nvPr/>
          </p:nvSpPr>
          <p:spPr>
            <a:xfrm>
              <a:off x="7320240" y="1685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0" name="Rectangle 26"/>
            <p:cNvSpPr/>
            <p:nvPr/>
          </p:nvSpPr>
          <p:spPr>
            <a:xfrm>
              <a:off x="194400" y="5398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1" name="Rectangle 27"/>
            <p:cNvSpPr/>
            <p:nvPr/>
          </p:nvSpPr>
          <p:spPr>
            <a:xfrm>
              <a:off x="118440" y="128592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2" name="Rectangle 28"/>
            <p:cNvSpPr/>
            <p:nvPr/>
          </p:nvSpPr>
          <p:spPr>
            <a:xfrm>
              <a:off x="118440" y="2809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03" name="Rectangle 29"/>
            <p:cNvSpPr/>
            <p:nvPr/>
          </p:nvSpPr>
          <p:spPr>
            <a:xfrm>
              <a:off x="156600" y="4213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04" name="Rectangle 30"/>
          <p:cNvSpPr/>
          <p:nvPr/>
        </p:nvSpPr>
        <p:spPr>
          <a:xfrm>
            <a:off x="1086120" y="1590840"/>
            <a:ext cx="4822560" cy="106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EBIT up to $3 million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ck financing is be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Rectangle 31"/>
          <p:cNvSpPr/>
          <p:nvPr/>
        </p:nvSpPr>
        <p:spPr>
          <a:xfrm>
            <a:off x="5541480" y="3246480"/>
            <a:ext cx="3265200" cy="204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EBIT grea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an $3 million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deb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financing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75160" y="304920"/>
            <a:ext cx="4502160" cy="90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-class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704880" y="1486080"/>
            <a:ext cx="7905600" cy="48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n A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sell 1,200,000 shares at $10 per sh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$12 million tota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n B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issue $3.5 million in 9% debt and sell 850,000 shares at $10 per sh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$12 million tota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me a marginal tax rate of 50%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Oval 11"/>
          <p:cNvSpPr/>
          <p:nvPr/>
        </p:nvSpPr>
        <p:spPr>
          <a:xfrm>
            <a:off x="2209680" y="2889360"/>
            <a:ext cx="3416400" cy="39751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0"/>
          </a:gradFill>
          <a:ln w="507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1000" y="742680"/>
            <a:ext cx="5581800" cy="61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lance Sh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urrent         Curren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          Liabiliti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b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xed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efer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se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reholders’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Group 5"/>
          <p:cNvGrpSpPr/>
          <p:nvPr/>
        </p:nvGrpSpPr>
        <p:grpSpPr>
          <a:xfrm>
            <a:off x="190440" y="1295280"/>
            <a:ext cx="5181840" cy="5550120"/>
            <a:chOff x="190440" y="1295280"/>
            <a:chExt cx="5181840" cy="5550120"/>
          </a:xfrm>
        </p:grpSpPr>
        <p:sp>
          <p:nvSpPr>
            <p:cNvPr id="151" name="Line 6"/>
            <p:cNvSpPr/>
            <p:nvPr/>
          </p:nvSpPr>
          <p:spPr>
            <a:xfrm>
              <a:off x="190440" y="1295280"/>
              <a:ext cx="5143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Line 7"/>
            <p:cNvSpPr/>
            <p:nvPr/>
          </p:nvSpPr>
          <p:spPr>
            <a:xfrm>
              <a:off x="2381400" y="1333440"/>
              <a:ext cx="0" cy="551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8"/>
            <p:cNvSpPr/>
            <p:nvPr/>
          </p:nvSpPr>
          <p:spPr>
            <a:xfrm>
              <a:off x="247680" y="2838600"/>
              <a:ext cx="5124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Line 9"/>
            <p:cNvSpPr/>
            <p:nvPr/>
          </p:nvSpPr>
          <p:spPr>
            <a:xfrm>
              <a:off x="2400480" y="4857840"/>
              <a:ext cx="29527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5" name="Rectangle 12"/>
          <p:cNvSpPr/>
          <p:nvPr/>
        </p:nvSpPr>
        <p:spPr>
          <a:xfrm>
            <a:off x="5736240" y="3965400"/>
            <a:ext cx="24832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apital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2997000" y="304920"/>
            <a:ext cx="50799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Financing            Levered Financ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 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=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 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                                       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BIT-0 (1-.50)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315,000)(1-.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200,000                       85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BIT = $1,08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9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9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8835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Analytical Income Stat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523880" y="914400"/>
            <a:ext cx="73152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eve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08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08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15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08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76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a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540,000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82,5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I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40,00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382,5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2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85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4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Line 10"/>
          <p:cNvSpPr/>
          <p:nvPr/>
        </p:nvSpPr>
        <p:spPr>
          <a:xfrm flipV="1">
            <a:off x="1962000" y="933120"/>
            <a:ext cx="3543480" cy="4762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Line 11"/>
          <p:cNvSpPr/>
          <p:nvPr/>
        </p:nvSpPr>
        <p:spPr>
          <a:xfrm flipV="1">
            <a:off x="762120" y="875880"/>
            <a:ext cx="5695920" cy="483876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2" name="Group 30"/>
          <p:cNvGrpSpPr/>
          <p:nvPr/>
        </p:nvGrpSpPr>
        <p:grpSpPr>
          <a:xfrm>
            <a:off x="0" y="573120"/>
            <a:ext cx="9132840" cy="5977440"/>
            <a:chOff x="0" y="573120"/>
            <a:chExt cx="9132840" cy="5977440"/>
          </a:xfrm>
        </p:grpSpPr>
        <p:sp>
          <p:nvSpPr>
            <p:cNvPr id="923" name="Rectangle 5"/>
            <p:cNvSpPr/>
            <p:nvPr/>
          </p:nvSpPr>
          <p:spPr>
            <a:xfrm>
              <a:off x="3340440" y="5731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4" name="Rectangle 6"/>
            <p:cNvSpPr/>
            <p:nvPr/>
          </p:nvSpPr>
          <p:spPr>
            <a:xfrm>
              <a:off x="5929560" y="7333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5" name="Line 8"/>
            <p:cNvSpPr/>
            <p:nvPr/>
          </p:nvSpPr>
          <p:spPr>
            <a:xfrm>
              <a:off x="743040" y="3086280"/>
              <a:ext cx="3124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6" name="Line 9"/>
            <p:cNvSpPr/>
            <p:nvPr/>
          </p:nvSpPr>
          <p:spPr>
            <a:xfrm>
              <a:off x="3848040" y="3105000"/>
              <a:ext cx="0" cy="2667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27" name="Group 12"/>
            <p:cNvGrpSpPr/>
            <p:nvPr/>
          </p:nvGrpSpPr>
          <p:grpSpPr>
            <a:xfrm>
              <a:off x="0" y="847800"/>
              <a:ext cx="9132840" cy="5702760"/>
              <a:chOff x="0" y="847800"/>
              <a:chExt cx="9132840" cy="5702760"/>
            </a:xfrm>
          </p:grpSpPr>
          <p:sp>
            <p:nvSpPr>
              <p:cNvPr id="928" name="Line 13"/>
              <p:cNvSpPr/>
              <p:nvPr/>
            </p:nvSpPr>
            <p:spPr>
              <a:xfrm>
                <a:off x="590400" y="5695920"/>
                <a:ext cx="1526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9" name="Rectangle 14"/>
              <p:cNvSpPr/>
              <p:nvPr/>
            </p:nvSpPr>
            <p:spPr>
              <a:xfrm>
                <a:off x="720" y="847800"/>
                <a:ext cx="930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PS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0" name="Rectangle 15"/>
              <p:cNvSpPr/>
              <p:nvPr/>
            </p:nvSpPr>
            <p:spPr>
              <a:xfrm>
                <a:off x="7975440" y="5494320"/>
                <a:ext cx="1157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BIT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1" name="Line 16"/>
              <p:cNvSpPr/>
              <p:nvPr/>
            </p:nvSpPr>
            <p:spPr>
              <a:xfrm>
                <a:off x="768240" y="144792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2" name="Line 17"/>
              <p:cNvSpPr/>
              <p:nvPr/>
            </p:nvSpPr>
            <p:spPr>
              <a:xfrm>
                <a:off x="768240" y="573408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3" name="Line 18"/>
              <p:cNvSpPr/>
              <p:nvPr/>
            </p:nvSpPr>
            <p:spPr>
              <a:xfrm>
                <a:off x="2305080" y="5753160"/>
                <a:ext cx="0" cy="2476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4" name="Line 19"/>
              <p:cNvSpPr/>
              <p:nvPr/>
            </p:nvSpPr>
            <p:spPr>
              <a:xfrm>
                <a:off x="3657600" y="5772240"/>
                <a:ext cx="0" cy="266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5" name="Line 20"/>
              <p:cNvSpPr/>
              <p:nvPr/>
            </p:nvSpPr>
            <p:spPr>
              <a:xfrm>
                <a:off x="5048280" y="575316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6" name="Line 21"/>
              <p:cNvSpPr/>
              <p:nvPr/>
            </p:nvSpPr>
            <p:spPr>
              <a:xfrm>
                <a:off x="6553080" y="573408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7" name="Rectangle 22"/>
              <p:cNvSpPr/>
              <p:nvPr/>
            </p:nvSpPr>
            <p:spPr>
              <a:xfrm>
                <a:off x="1689840" y="5970600"/>
                <a:ext cx="541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.5m       $1m      $1.5m     $2m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Line 23"/>
              <p:cNvSpPr/>
              <p:nvPr/>
            </p:nvSpPr>
            <p:spPr>
              <a:xfrm>
                <a:off x="552600" y="1581120"/>
                <a:ext cx="20952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9" name="Line 24"/>
              <p:cNvSpPr/>
              <p:nvPr/>
            </p:nvSpPr>
            <p:spPr>
              <a:xfrm>
                <a:off x="533520" y="4495680"/>
                <a:ext cx="2286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0" name="Line 25"/>
              <p:cNvSpPr/>
              <p:nvPr/>
            </p:nvSpPr>
            <p:spPr>
              <a:xfrm>
                <a:off x="514440" y="3086280"/>
                <a:ext cx="2476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1" name="Rectangle 26"/>
              <p:cNvSpPr/>
              <p:nvPr/>
            </p:nvSpPr>
            <p:spPr>
              <a:xfrm>
                <a:off x="194400" y="53989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Rectangle 27"/>
              <p:cNvSpPr/>
              <p:nvPr/>
            </p:nvSpPr>
            <p:spPr>
              <a:xfrm>
                <a:off x="0" y="130500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6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3" name="Rectangle 28"/>
              <p:cNvSpPr/>
              <p:nvPr/>
            </p:nvSpPr>
            <p:spPr>
              <a:xfrm>
                <a:off x="0" y="284796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4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4" name="Rectangle 29"/>
              <p:cNvSpPr/>
              <p:nvPr/>
            </p:nvSpPr>
            <p:spPr>
              <a:xfrm>
                <a:off x="0" y="421812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2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Rectangle 7"/>
          <p:cNvSpPr/>
          <p:nvPr/>
        </p:nvSpPr>
        <p:spPr>
          <a:xfrm>
            <a:off x="990720" y="0"/>
            <a:ext cx="2603520" cy="252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EBIT up to $1.08 m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ock financing is be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Line 11"/>
          <p:cNvSpPr/>
          <p:nvPr/>
        </p:nvSpPr>
        <p:spPr>
          <a:xfrm flipV="1">
            <a:off x="1962000" y="933120"/>
            <a:ext cx="3543480" cy="4762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Line 12"/>
          <p:cNvSpPr/>
          <p:nvPr/>
        </p:nvSpPr>
        <p:spPr>
          <a:xfrm flipV="1">
            <a:off x="762120" y="875880"/>
            <a:ext cx="5695920" cy="483876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1" name="Group 31"/>
          <p:cNvGrpSpPr/>
          <p:nvPr/>
        </p:nvGrpSpPr>
        <p:grpSpPr>
          <a:xfrm>
            <a:off x="0" y="573120"/>
            <a:ext cx="9132840" cy="5977440"/>
            <a:chOff x="0" y="573120"/>
            <a:chExt cx="9132840" cy="5977440"/>
          </a:xfrm>
        </p:grpSpPr>
        <p:sp>
          <p:nvSpPr>
            <p:cNvPr id="952" name="Rectangle 5"/>
            <p:cNvSpPr/>
            <p:nvPr/>
          </p:nvSpPr>
          <p:spPr>
            <a:xfrm>
              <a:off x="3340440" y="5731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3" name="Rectangle 6"/>
            <p:cNvSpPr/>
            <p:nvPr/>
          </p:nvSpPr>
          <p:spPr>
            <a:xfrm>
              <a:off x="5929560" y="7333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4" name="Line 9"/>
            <p:cNvSpPr/>
            <p:nvPr/>
          </p:nvSpPr>
          <p:spPr>
            <a:xfrm>
              <a:off x="743040" y="3086280"/>
              <a:ext cx="3124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5" name="Line 10"/>
            <p:cNvSpPr/>
            <p:nvPr/>
          </p:nvSpPr>
          <p:spPr>
            <a:xfrm>
              <a:off x="3848040" y="3105000"/>
              <a:ext cx="0" cy="2667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56" name="Group 13"/>
            <p:cNvGrpSpPr/>
            <p:nvPr/>
          </p:nvGrpSpPr>
          <p:grpSpPr>
            <a:xfrm>
              <a:off x="0" y="847800"/>
              <a:ext cx="9132840" cy="5702760"/>
              <a:chOff x="0" y="847800"/>
              <a:chExt cx="9132840" cy="5702760"/>
            </a:xfrm>
          </p:grpSpPr>
          <p:sp>
            <p:nvSpPr>
              <p:cNvPr id="957" name="Line 14"/>
              <p:cNvSpPr/>
              <p:nvPr/>
            </p:nvSpPr>
            <p:spPr>
              <a:xfrm>
                <a:off x="590400" y="5695920"/>
                <a:ext cx="1526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8" name="Rectangle 15"/>
              <p:cNvSpPr/>
              <p:nvPr/>
            </p:nvSpPr>
            <p:spPr>
              <a:xfrm>
                <a:off x="720" y="847800"/>
                <a:ext cx="930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PS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9" name="Rectangle 16"/>
              <p:cNvSpPr/>
              <p:nvPr/>
            </p:nvSpPr>
            <p:spPr>
              <a:xfrm>
                <a:off x="7975440" y="5494320"/>
                <a:ext cx="1157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BIT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0" name="Line 17"/>
              <p:cNvSpPr/>
              <p:nvPr/>
            </p:nvSpPr>
            <p:spPr>
              <a:xfrm>
                <a:off x="768240" y="144792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Line 18"/>
              <p:cNvSpPr/>
              <p:nvPr/>
            </p:nvSpPr>
            <p:spPr>
              <a:xfrm>
                <a:off x="768240" y="573408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>
                <a:off x="2305080" y="5753160"/>
                <a:ext cx="0" cy="2476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3" name="Line 20"/>
              <p:cNvSpPr/>
              <p:nvPr/>
            </p:nvSpPr>
            <p:spPr>
              <a:xfrm>
                <a:off x="3657600" y="5772240"/>
                <a:ext cx="0" cy="266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4" name="Line 21"/>
              <p:cNvSpPr/>
              <p:nvPr/>
            </p:nvSpPr>
            <p:spPr>
              <a:xfrm>
                <a:off x="5048280" y="575316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5" name="Line 22"/>
              <p:cNvSpPr/>
              <p:nvPr/>
            </p:nvSpPr>
            <p:spPr>
              <a:xfrm>
                <a:off x="6553080" y="573408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6" name="Rectangle 23"/>
              <p:cNvSpPr/>
              <p:nvPr/>
            </p:nvSpPr>
            <p:spPr>
              <a:xfrm>
                <a:off x="1689840" y="5970600"/>
                <a:ext cx="541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.5m       $1m      $1.5m     $2m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7" name="Line 24"/>
              <p:cNvSpPr/>
              <p:nvPr/>
            </p:nvSpPr>
            <p:spPr>
              <a:xfrm>
                <a:off x="552600" y="1581120"/>
                <a:ext cx="20952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8" name="Line 25"/>
              <p:cNvSpPr/>
              <p:nvPr/>
            </p:nvSpPr>
            <p:spPr>
              <a:xfrm>
                <a:off x="533520" y="4495680"/>
                <a:ext cx="2286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9" name="Line 26"/>
              <p:cNvSpPr/>
              <p:nvPr/>
            </p:nvSpPr>
            <p:spPr>
              <a:xfrm>
                <a:off x="514440" y="3086280"/>
                <a:ext cx="2476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0" name="Rectangle 27"/>
              <p:cNvSpPr/>
              <p:nvPr/>
            </p:nvSpPr>
            <p:spPr>
              <a:xfrm>
                <a:off x="194400" y="53989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1" name="Rectangle 28"/>
              <p:cNvSpPr/>
              <p:nvPr/>
            </p:nvSpPr>
            <p:spPr>
              <a:xfrm>
                <a:off x="0" y="130500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6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Rectangle 29"/>
              <p:cNvSpPr/>
              <p:nvPr/>
            </p:nvSpPr>
            <p:spPr>
              <a:xfrm>
                <a:off x="0" y="284796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4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3" name="Rectangle 30"/>
              <p:cNvSpPr/>
              <p:nvPr/>
            </p:nvSpPr>
            <p:spPr>
              <a:xfrm>
                <a:off x="0" y="421812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2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8" name="Rectangle 7"/>
          <p:cNvSpPr/>
          <p:nvPr/>
        </p:nvSpPr>
        <p:spPr>
          <a:xfrm>
            <a:off x="824040" y="162000"/>
            <a:ext cx="2603520" cy="252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r EBIT up to $1.08 m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ock financing is be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Rectangle 8"/>
          <p:cNvSpPr/>
          <p:nvPr/>
        </p:nvSpPr>
        <p:spPr>
          <a:xfrm>
            <a:off x="5490720" y="2124000"/>
            <a:ext cx="3341160" cy="2042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 EBIT grea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an $1.08 m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levered plan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s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0" name="Group 32"/>
          <p:cNvGrpSpPr/>
          <p:nvPr/>
        </p:nvGrpSpPr>
        <p:grpSpPr>
          <a:xfrm>
            <a:off x="0" y="573120"/>
            <a:ext cx="9132840" cy="5977440"/>
            <a:chOff x="0" y="573120"/>
            <a:chExt cx="9132840" cy="5977440"/>
          </a:xfrm>
        </p:grpSpPr>
        <p:sp>
          <p:nvSpPr>
            <p:cNvPr id="981" name="Rectangle 5"/>
            <p:cNvSpPr/>
            <p:nvPr/>
          </p:nvSpPr>
          <p:spPr>
            <a:xfrm>
              <a:off x="3340440" y="5731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Rectangle 6"/>
            <p:cNvSpPr/>
            <p:nvPr/>
          </p:nvSpPr>
          <p:spPr>
            <a:xfrm>
              <a:off x="5929560" y="73332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3" name="Line 10"/>
            <p:cNvSpPr/>
            <p:nvPr/>
          </p:nvSpPr>
          <p:spPr>
            <a:xfrm>
              <a:off x="743040" y="3086280"/>
              <a:ext cx="3124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4" name="Line 11"/>
            <p:cNvSpPr/>
            <p:nvPr/>
          </p:nvSpPr>
          <p:spPr>
            <a:xfrm>
              <a:off x="3848040" y="3105000"/>
              <a:ext cx="0" cy="2667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Line 12"/>
            <p:cNvSpPr/>
            <p:nvPr/>
          </p:nvSpPr>
          <p:spPr>
            <a:xfrm flipV="1">
              <a:off x="1962000" y="933120"/>
              <a:ext cx="3543480" cy="4762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Line 13"/>
            <p:cNvSpPr/>
            <p:nvPr/>
          </p:nvSpPr>
          <p:spPr>
            <a:xfrm flipV="1">
              <a:off x="762120" y="875880"/>
              <a:ext cx="5695920" cy="48387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87" name="Group 14"/>
            <p:cNvGrpSpPr/>
            <p:nvPr/>
          </p:nvGrpSpPr>
          <p:grpSpPr>
            <a:xfrm>
              <a:off x="0" y="847800"/>
              <a:ext cx="9132840" cy="5702760"/>
              <a:chOff x="0" y="847800"/>
              <a:chExt cx="9132840" cy="5702760"/>
            </a:xfrm>
          </p:grpSpPr>
          <p:sp>
            <p:nvSpPr>
              <p:cNvPr id="988" name="Line 15"/>
              <p:cNvSpPr/>
              <p:nvPr/>
            </p:nvSpPr>
            <p:spPr>
              <a:xfrm>
                <a:off x="590400" y="5695920"/>
                <a:ext cx="1526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9" name="Rectangle 16"/>
              <p:cNvSpPr/>
              <p:nvPr/>
            </p:nvSpPr>
            <p:spPr>
              <a:xfrm>
                <a:off x="720" y="847800"/>
                <a:ext cx="930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PS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0" name="Rectangle 17"/>
              <p:cNvSpPr/>
              <p:nvPr/>
            </p:nvSpPr>
            <p:spPr>
              <a:xfrm>
                <a:off x="7975440" y="5494320"/>
                <a:ext cx="1157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BIT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Line 18"/>
              <p:cNvSpPr/>
              <p:nvPr/>
            </p:nvSpPr>
            <p:spPr>
              <a:xfrm>
                <a:off x="768240" y="144792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Line 19"/>
              <p:cNvSpPr/>
              <p:nvPr/>
            </p:nvSpPr>
            <p:spPr>
              <a:xfrm>
                <a:off x="768240" y="573408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Line 20"/>
              <p:cNvSpPr/>
              <p:nvPr/>
            </p:nvSpPr>
            <p:spPr>
              <a:xfrm>
                <a:off x="2305080" y="5753160"/>
                <a:ext cx="0" cy="2476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4" name="Line 21"/>
              <p:cNvSpPr/>
              <p:nvPr/>
            </p:nvSpPr>
            <p:spPr>
              <a:xfrm>
                <a:off x="3657600" y="5772240"/>
                <a:ext cx="0" cy="266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5" name="Line 22"/>
              <p:cNvSpPr/>
              <p:nvPr/>
            </p:nvSpPr>
            <p:spPr>
              <a:xfrm>
                <a:off x="5048280" y="575316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6" name="Line 23"/>
              <p:cNvSpPr/>
              <p:nvPr/>
            </p:nvSpPr>
            <p:spPr>
              <a:xfrm>
                <a:off x="6553080" y="573408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Rectangle 24"/>
              <p:cNvSpPr/>
              <p:nvPr/>
            </p:nvSpPr>
            <p:spPr>
              <a:xfrm>
                <a:off x="1689840" y="5970600"/>
                <a:ext cx="541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.5m       $1m      $1.5m     $2m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8" name="Line 25"/>
              <p:cNvSpPr/>
              <p:nvPr/>
            </p:nvSpPr>
            <p:spPr>
              <a:xfrm>
                <a:off x="552600" y="1581120"/>
                <a:ext cx="20952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9" name="Line 26"/>
              <p:cNvSpPr/>
              <p:nvPr/>
            </p:nvSpPr>
            <p:spPr>
              <a:xfrm>
                <a:off x="533520" y="4495680"/>
                <a:ext cx="2286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0" name="Line 27"/>
              <p:cNvSpPr/>
              <p:nvPr/>
            </p:nvSpPr>
            <p:spPr>
              <a:xfrm>
                <a:off x="514440" y="3086280"/>
                <a:ext cx="2476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1" name="Rectangle 28"/>
              <p:cNvSpPr/>
              <p:nvPr/>
            </p:nvSpPr>
            <p:spPr>
              <a:xfrm>
                <a:off x="194400" y="539892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2" name="Rectangle 29"/>
              <p:cNvSpPr/>
              <p:nvPr/>
            </p:nvSpPr>
            <p:spPr>
              <a:xfrm>
                <a:off x="0" y="130500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6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3" name="Rectangle 30"/>
              <p:cNvSpPr/>
              <p:nvPr/>
            </p:nvSpPr>
            <p:spPr>
              <a:xfrm>
                <a:off x="0" y="284796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4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4" name="Rectangle 31"/>
              <p:cNvSpPr/>
              <p:nvPr/>
            </p:nvSpPr>
            <p:spPr>
              <a:xfrm>
                <a:off x="0" y="421812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2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575160" y="304920"/>
            <a:ext cx="4502160" cy="90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-class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704880" y="1486080"/>
            <a:ext cx="7905600" cy="48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n A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sell 1,200,000 shares at $20 per share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$24 million tota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n B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issue $9.6 million in 9% debt and sell shares at $20 per share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$24 million total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sume a 35% marginal tax ra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10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0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2997000" y="304920"/>
            <a:ext cx="507996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Financing            Levered Financ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 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=  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I) (1-t) - 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                                       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0) (1-.35)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EBIT-864,000)(1-.35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200,000                       72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BIT = $2,16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500"/>
                                        <p:tgtEl>
                                          <p:spTgt spid="10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0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10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10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0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72644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alytical Income Statemen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047600" y="1142640"/>
            <a:ext cx="8096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Lever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16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16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           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864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,16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296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a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756,000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453,6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I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,404,00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842,4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hare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,2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72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P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17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1.1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2" name="Line 8"/>
          <p:cNvSpPr/>
          <p:nvPr/>
        </p:nvSpPr>
        <p:spPr>
          <a:xfrm flipV="1">
            <a:off x="1962000" y="956880"/>
            <a:ext cx="3543480" cy="4762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Line 9"/>
          <p:cNvSpPr/>
          <p:nvPr/>
        </p:nvSpPr>
        <p:spPr>
          <a:xfrm flipV="1">
            <a:off x="762120" y="899640"/>
            <a:ext cx="5695920" cy="483876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4" name="Group 28"/>
          <p:cNvGrpSpPr/>
          <p:nvPr/>
        </p:nvGrpSpPr>
        <p:grpSpPr>
          <a:xfrm>
            <a:off x="-1440" y="571680"/>
            <a:ext cx="9134280" cy="6002640"/>
            <a:chOff x="-1440" y="571680"/>
            <a:chExt cx="9134280" cy="6002640"/>
          </a:xfrm>
        </p:grpSpPr>
        <p:sp>
          <p:nvSpPr>
            <p:cNvPr id="1015" name="Rectangle 3"/>
            <p:cNvSpPr/>
            <p:nvPr/>
          </p:nvSpPr>
          <p:spPr>
            <a:xfrm>
              <a:off x="3338640" y="5716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Rectangle 4"/>
            <p:cNvSpPr/>
            <p:nvPr/>
          </p:nvSpPr>
          <p:spPr>
            <a:xfrm>
              <a:off x="5929560" y="731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Line 6"/>
            <p:cNvSpPr/>
            <p:nvPr/>
          </p:nvSpPr>
          <p:spPr>
            <a:xfrm>
              <a:off x="743040" y="3110040"/>
              <a:ext cx="3124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Line 7"/>
            <p:cNvSpPr/>
            <p:nvPr/>
          </p:nvSpPr>
          <p:spPr>
            <a:xfrm>
              <a:off x="3848040" y="3129120"/>
              <a:ext cx="0" cy="26668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19" name="Group 10"/>
            <p:cNvGrpSpPr/>
            <p:nvPr/>
          </p:nvGrpSpPr>
          <p:grpSpPr>
            <a:xfrm>
              <a:off x="-1440" y="870120"/>
              <a:ext cx="9134280" cy="5704200"/>
              <a:chOff x="-1440" y="870120"/>
              <a:chExt cx="9134280" cy="5704200"/>
            </a:xfrm>
          </p:grpSpPr>
          <p:sp>
            <p:nvSpPr>
              <p:cNvPr id="1020" name="Line 11"/>
              <p:cNvSpPr/>
              <p:nvPr/>
            </p:nvSpPr>
            <p:spPr>
              <a:xfrm>
                <a:off x="590400" y="5719680"/>
                <a:ext cx="15264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Rectangle 12"/>
              <p:cNvSpPr/>
              <p:nvPr/>
            </p:nvSpPr>
            <p:spPr>
              <a:xfrm>
                <a:off x="-720" y="870120"/>
                <a:ext cx="9302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PS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Rectangle 13"/>
              <p:cNvSpPr/>
              <p:nvPr/>
            </p:nvSpPr>
            <p:spPr>
              <a:xfrm>
                <a:off x="7975440" y="5518080"/>
                <a:ext cx="1157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EBIT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3" name="Line 14"/>
              <p:cNvSpPr/>
              <p:nvPr/>
            </p:nvSpPr>
            <p:spPr>
              <a:xfrm>
                <a:off x="768240" y="1471680"/>
                <a:ext cx="0" cy="42861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4" name="Line 15"/>
              <p:cNvSpPr/>
              <p:nvPr/>
            </p:nvSpPr>
            <p:spPr>
              <a:xfrm>
                <a:off x="768240" y="5757840"/>
                <a:ext cx="72392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5" name="Line 16"/>
              <p:cNvSpPr/>
              <p:nvPr/>
            </p:nvSpPr>
            <p:spPr>
              <a:xfrm>
                <a:off x="2305080" y="5776920"/>
                <a:ext cx="0" cy="24768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6" name="Line 17"/>
              <p:cNvSpPr/>
              <p:nvPr/>
            </p:nvSpPr>
            <p:spPr>
              <a:xfrm>
                <a:off x="3657600" y="5796000"/>
                <a:ext cx="0" cy="26676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7" name="Line 18"/>
              <p:cNvSpPr/>
              <p:nvPr/>
            </p:nvSpPr>
            <p:spPr>
              <a:xfrm>
                <a:off x="5048280" y="577692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8" name="Line 19"/>
              <p:cNvSpPr/>
              <p:nvPr/>
            </p:nvSpPr>
            <p:spPr>
              <a:xfrm>
                <a:off x="6553080" y="5757840"/>
                <a:ext cx="0" cy="28584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9" name="Rectangle 20"/>
              <p:cNvSpPr/>
              <p:nvPr/>
            </p:nvSpPr>
            <p:spPr>
              <a:xfrm>
                <a:off x="1688040" y="5994360"/>
                <a:ext cx="5418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1m       $2m       $3m        $4m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0" name="Line 21"/>
              <p:cNvSpPr/>
              <p:nvPr/>
            </p:nvSpPr>
            <p:spPr>
              <a:xfrm>
                <a:off x="552600" y="1604880"/>
                <a:ext cx="20952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1" name="Line 22"/>
              <p:cNvSpPr/>
              <p:nvPr/>
            </p:nvSpPr>
            <p:spPr>
              <a:xfrm>
                <a:off x="533520" y="4519440"/>
                <a:ext cx="22860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2" name="Line 23"/>
              <p:cNvSpPr/>
              <p:nvPr/>
            </p:nvSpPr>
            <p:spPr>
              <a:xfrm>
                <a:off x="514440" y="3110040"/>
                <a:ext cx="24768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3" name="Rectangle 24"/>
              <p:cNvSpPr/>
              <p:nvPr/>
            </p:nvSpPr>
            <p:spPr>
              <a:xfrm>
                <a:off x="192960" y="542304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4" name="Rectangle 25"/>
              <p:cNvSpPr/>
              <p:nvPr/>
            </p:nvSpPr>
            <p:spPr>
              <a:xfrm>
                <a:off x="-1440" y="1327320"/>
                <a:ext cx="6955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1.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5" name="Rectangle 26"/>
              <p:cNvSpPr/>
              <p:nvPr/>
            </p:nvSpPr>
            <p:spPr>
              <a:xfrm>
                <a:off x="-720" y="2914560"/>
                <a:ext cx="808200" cy="51912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Times New Roman"/>
                  </a:rPr>
                  <a:t>1.17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6" name="Rectangle 27"/>
              <p:cNvSpPr/>
              <p:nvPr/>
            </p:nvSpPr>
            <p:spPr>
              <a:xfrm>
                <a:off x="-1080" y="4241880"/>
                <a:ext cx="4914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.5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8" name="Line 8"/>
          <p:cNvSpPr/>
          <p:nvPr/>
        </p:nvSpPr>
        <p:spPr>
          <a:xfrm flipV="1">
            <a:off x="1962000" y="956880"/>
            <a:ext cx="3543480" cy="4762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Line 9"/>
          <p:cNvSpPr/>
          <p:nvPr/>
        </p:nvSpPr>
        <p:spPr>
          <a:xfrm flipV="1">
            <a:off x="762120" y="899640"/>
            <a:ext cx="5695920" cy="483876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0" name="Group 30"/>
          <p:cNvGrpSpPr/>
          <p:nvPr/>
        </p:nvGrpSpPr>
        <p:grpSpPr>
          <a:xfrm>
            <a:off x="-1440" y="160200"/>
            <a:ext cx="9134280" cy="6414120"/>
            <a:chOff x="-1440" y="160200"/>
            <a:chExt cx="9134280" cy="6414120"/>
          </a:xfrm>
        </p:grpSpPr>
        <p:sp>
          <p:nvSpPr>
            <p:cNvPr id="1041" name="Rectangle 3"/>
            <p:cNvSpPr/>
            <p:nvPr/>
          </p:nvSpPr>
          <p:spPr>
            <a:xfrm>
              <a:off x="3338640" y="5716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Rectangle 4"/>
            <p:cNvSpPr/>
            <p:nvPr/>
          </p:nvSpPr>
          <p:spPr>
            <a:xfrm>
              <a:off x="5929560" y="731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3" name="Group 29"/>
            <p:cNvGrpSpPr/>
            <p:nvPr/>
          </p:nvGrpSpPr>
          <p:grpSpPr>
            <a:xfrm>
              <a:off x="-1440" y="160200"/>
              <a:ext cx="9134280" cy="6414120"/>
              <a:chOff x="-1440" y="160200"/>
              <a:chExt cx="9134280" cy="6414120"/>
            </a:xfrm>
          </p:grpSpPr>
          <p:sp>
            <p:nvSpPr>
              <p:cNvPr id="1044" name="Line 6"/>
              <p:cNvSpPr/>
              <p:nvPr/>
            </p:nvSpPr>
            <p:spPr>
              <a:xfrm>
                <a:off x="743040" y="3110040"/>
                <a:ext cx="31240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5" name="Line 7"/>
              <p:cNvSpPr/>
              <p:nvPr/>
            </p:nvSpPr>
            <p:spPr>
              <a:xfrm>
                <a:off x="3848040" y="3129120"/>
                <a:ext cx="0" cy="26668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046" name="Group 10"/>
              <p:cNvGrpSpPr/>
              <p:nvPr/>
            </p:nvGrpSpPr>
            <p:grpSpPr>
              <a:xfrm>
                <a:off x="-1440" y="870120"/>
                <a:ext cx="9134280" cy="5704200"/>
                <a:chOff x="-1440" y="870120"/>
                <a:chExt cx="9134280" cy="5704200"/>
              </a:xfrm>
            </p:grpSpPr>
            <p:sp>
              <p:nvSpPr>
                <p:cNvPr id="1047" name="Line 11"/>
                <p:cNvSpPr/>
                <p:nvPr/>
              </p:nvSpPr>
              <p:spPr>
                <a:xfrm>
                  <a:off x="590400" y="5719680"/>
                  <a:ext cx="15264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12"/>
                <p:cNvSpPr/>
                <p:nvPr/>
              </p:nvSpPr>
              <p:spPr>
                <a:xfrm>
                  <a:off x="-720" y="870120"/>
                  <a:ext cx="9302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EPS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Rectangle 13"/>
                <p:cNvSpPr/>
                <p:nvPr/>
              </p:nvSpPr>
              <p:spPr>
                <a:xfrm>
                  <a:off x="7975440" y="5518080"/>
                  <a:ext cx="11574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EBIT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Line 14"/>
                <p:cNvSpPr/>
                <p:nvPr/>
              </p:nvSpPr>
              <p:spPr>
                <a:xfrm>
                  <a:off x="768240" y="147168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Line 15"/>
                <p:cNvSpPr/>
                <p:nvPr/>
              </p:nvSpPr>
              <p:spPr>
                <a:xfrm>
                  <a:off x="768240" y="5757840"/>
                  <a:ext cx="723924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Line 16"/>
                <p:cNvSpPr/>
                <p:nvPr/>
              </p:nvSpPr>
              <p:spPr>
                <a:xfrm>
                  <a:off x="2305080" y="5776920"/>
                  <a:ext cx="0" cy="24768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Line 17"/>
                <p:cNvSpPr/>
                <p:nvPr/>
              </p:nvSpPr>
              <p:spPr>
                <a:xfrm>
                  <a:off x="3657600" y="5796000"/>
                  <a:ext cx="0" cy="26676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Line 18"/>
                <p:cNvSpPr/>
                <p:nvPr/>
              </p:nvSpPr>
              <p:spPr>
                <a:xfrm>
                  <a:off x="5048280" y="5776920"/>
                  <a:ext cx="0" cy="28584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Line 19"/>
                <p:cNvSpPr/>
                <p:nvPr/>
              </p:nvSpPr>
              <p:spPr>
                <a:xfrm>
                  <a:off x="6553080" y="5757840"/>
                  <a:ext cx="0" cy="28584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Rectangle 20"/>
                <p:cNvSpPr/>
                <p:nvPr/>
              </p:nvSpPr>
              <p:spPr>
                <a:xfrm>
                  <a:off x="1688040" y="5994360"/>
                  <a:ext cx="541836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$1m       $2m       $3m        $4m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Line 21"/>
                <p:cNvSpPr/>
                <p:nvPr/>
              </p:nvSpPr>
              <p:spPr>
                <a:xfrm>
                  <a:off x="552600" y="1604880"/>
                  <a:ext cx="20952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Line 22"/>
                <p:cNvSpPr/>
                <p:nvPr/>
              </p:nvSpPr>
              <p:spPr>
                <a:xfrm>
                  <a:off x="533520" y="4519440"/>
                  <a:ext cx="22860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Line 23"/>
                <p:cNvSpPr/>
                <p:nvPr/>
              </p:nvSpPr>
              <p:spPr>
                <a:xfrm>
                  <a:off x="514440" y="3110040"/>
                  <a:ext cx="24768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Rectangle 24"/>
                <p:cNvSpPr/>
                <p:nvPr/>
              </p:nvSpPr>
              <p:spPr>
                <a:xfrm>
                  <a:off x="192960" y="5423040"/>
                  <a:ext cx="38916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Rectangle 25"/>
                <p:cNvSpPr/>
                <p:nvPr/>
              </p:nvSpPr>
              <p:spPr>
                <a:xfrm>
                  <a:off x="-1440" y="1327320"/>
                  <a:ext cx="6955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1.5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26"/>
                <p:cNvSpPr/>
                <p:nvPr/>
              </p:nvSpPr>
              <p:spPr>
                <a:xfrm>
                  <a:off x="-720" y="2914560"/>
                  <a:ext cx="808200" cy="5191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.17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Rectangle 27"/>
                <p:cNvSpPr/>
                <p:nvPr/>
              </p:nvSpPr>
              <p:spPr>
                <a:xfrm>
                  <a:off x="-1080" y="4241880"/>
                  <a:ext cx="4914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.5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4" name="Rectangle 28"/>
              <p:cNvSpPr/>
              <p:nvPr/>
            </p:nvSpPr>
            <p:spPr>
              <a:xfrm>
                <a:off x="822240" y="160200"/>
                <a:ext cx="2603520" cy="2529720"/>
              </a:xfrm>
              <a:prstGeom prst="rect">
                <a:avLst/>
              </a:prstGeom>
              <a:noFill/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or EBIT up to $2.16 m,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stock financing is best.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y is Capital Structure Important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Leverag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higher financial leverage means higher returns to stockholders, but higher risk due to interest paym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st of Capital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Each source of financing has a different cost.  Capital structure affects the cost of capi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he Optimal Capital Structur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is the one that minimizes the firm’s cost of capital and maximizes firm val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381560" y="12240"/>
            <a:ext cx="47368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EBI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66" name="Group 30"/>
          <p:cNvGrpSpPr/>
          <p:nvPr/>
        </p:nvGrpSpPr>
        <p:grpSpPr>
          <a:xfrm>
            <a:off x="-1440" y="160200"/>
            <a:ext cx="9133560" cy="6414120"/>
            <a:chOff x="-1440" y="160200"/>
            <a:chExt cx="9133560" cy="6414120"/>
          </a:xfrm>
        </p:grpSpPr>
        <p:sp>
          <p:nvSpPr>
            <p:cNvPr id="1067" name="Rectangle 3"/>
            <p:cNvSpPr/>
            <p:nvPr/>
          </p:nvSpPr>
          <p:spPr>
            <a:xfrm>
              <a:off x="3338640" y="5716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levered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8" name="Rectangle 4"/>
            <p:cNvSpPr/>
            <p:nvPr/>
          </p:nvSpPr>
          <p:spPr>
            <a:xfrm>
              <a:off x="5929560" y="731880"/>
              <a:ext cx="1812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stock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financing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69" name="Group 5"/>
            <p:cNvGrpSpPr/>
            <p:nvPr/>
          </p:nvGrpSpPr>
          <p:grpSpPr>
            <a:xfrm>
              <a:off x="-1440" y="870120"/>
              <a:ext cx="9133560" cy="5704200"/>
              <a:chOff x="-1440" y="870120"/>
              <a:chExt cx="9133560" cy="5704200"/>
            </a:xfrm>
          </p:grpSpPr>
          <p:sp>
            <p:nvSpPr>
              <p:cNvPr id="1070" name="Line 6"/>
              <p:cNvSpPr/>
              <p:nvPr/>
            </p:nvSpPr>
            <p:spPr>
              <a:xfrm>
                <a:off x="743040" y="3110040"/>
                <a:ext cx="3124080" cy="0"/>
              </a:xfrm>
              <a:prstGeom prst="line">
                <a:avLst/>
              </a:prstGeom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1" name="Line 7"/>
              <p:cNvSpPr/>
              <p:nvPr/>
            </p:nvSpPr>
            <p:spPr>
              <a:xfrm>
                <a:off x="3848040" y="3129120"/>
                <a:ext cx="0" cy="2666880"/>
              </a:xfrm>
              <a:prstGeom prst="line">
                <a:avLst/>
              </a:prstGeom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2" name="Line 8"/>
              <p:cNvSpPr/>
              <p:nvPr/>
            </p:nvSpPr>
            <p:spPr>
              <a:xfrm flipV="1">
                <a:off x="1962000" y="956880"/>
                <a:ext cx="3543480" cy="47624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3" name="Line 9"/>
              <p:cNvSpPr/>
              <p:nvPr/>
            </p:nvSpPr>
            <p:spPr>
              <a:xfrm flipV="1">
                <a:off x="762120" y="899640"/>
                <a:ext cx="5695920" cy="48387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074" name="Group 10"/>
              <p:cNvGrpSpPr/>
              <p:nvPr/>
            </p:nvGrpSpPr>
            <p:grpSpPr>
              <a:xfrm>
                <a:off x="-1440" y="870120"/>
                <a:ext cx="9133560" cy="5704200"/>
                <a:chOff x="-1440" y="870120"/>
                <a:chExt cx="9133560" cy="5704200"/>
              </a:xfrm>
            </p:grpSpPr>
            <p:sp>
              <p:nvSpPr>
                <p:cNvPr id="1075" name="Line 11"/>
                <p:cNvSpPr/>
                <p:nvPr/>
              </p:nvSpPr>
              <p:spPr>
                <a:xfrm>
                  <a:off x="590400" y="5719680"/>
                  <a:ext cx="15264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12"/>
                <p:cNvSpPr/>
                <p:nvPr/>
              </p:nvSpPr>
              <p:spPr>
                <a:xfrm>
                  <a:off x="0" y="870120"/>
                  <a:ext cx="93024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EPS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13"/>
                <p:cNvSpPr/>
                <p:nvPr/>
              </p:nvSpPr>
              <p:spPr>
                <a:xfrm>
                  <a:off x="7974720" y="5518080"/>
                  <a:ext cx="11574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cc"/>
                      </a:solidFill>
                      <a:latin typeface="Times New Roman"/>
                    </a:rPr>
                    <a:t>EBIT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Line 14"/>
                <p:cNvSpPr/>
                <p:nvPr/>
              </p:nvSpPr>
              <p:spPr>
                <a:xfrm>
                  <a:off x="768240" y="1471680"/>
                  <a:ext cx="0" cy="42861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Line 15"/>
                <p:cNvSpPr/>
                <p:nvPr/>
              </p:nvSpPr>
              <p:spPr>
                <a:xfrm>
                  <a:off x="768240" y="5757840"/>
                  <a:ext cx="723924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Line 16"/>
                <p:cNvSpPr/>
                <p:nvPr/>
              </p:nvSpPr>
              <p:spPr>
                <a:xfrm>
                  <a:off x="2305080" y="5776920"/>
                  <a:ext cx="0" cy="24768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Line 17"/>
                <p:cNvSpPr/>
                <p:nvPr/>
              </p:nvSpPr>
              <p:spPr>
                <a:xfrm>
                  <a:off x="3657600" y="5796000"/>
                  <a:ext cx="0" cy="26676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Line 18"/>
                <p:cNvSpPr/>
                <p:nvPr/>
              </p:nvSpPr>
              <p:spPr>
                <a:xfrm>
                  <a:off x="5048280" y="5776920"/>
                  <a:ext cx="0" cy="28584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Line 19"/>
                <p:cNvSpPr/>
                <p:nvPr/>
              </p:nvSpPr>
              <p:spPr>
                <a:xfrm>
                  <a:off x="6553080" y="5757840"/>
                  <a:ext cx="0" cy="28584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Rectangle 20"/>
                <p:cNvSpPr/>
                <p:nvPr/>
              </p:nvSpPr>
              <p:spPr>
                <a:xfrm>
                  <a:off x="1689120" y="5994360"/>
                  <a:ext cx="541836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$1m       $2m       $3m        $4m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Line 21"/>
                <p:cNvSpPr/>
                <p:nvPr/>
              </p:nvSpPr>
              <p:spPr>
                <a:xfrm>
                  <a:off x="552600" y="1604880"/>
                  <a:ext cx="20952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Line 22"/>
                <p:cNvSpPr/>
                <p:nvPr/>
              </p:nvSpPr>
              <p:spPr>
                <a:xfrm>
                  <a:off x="533520" y="4519440"/>
                  <a:ext cx="22860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Line 23"/>
                <p:cNvSpPr/>
                <p:nvPr/>
              </p:nvSpPr>
              <p:spPr>
                <a:xfrm>
                  <a:off x="514440" y="3110040"/>
                  <a:ext cx="247680" cy="0"/>
                </a:xfrm>
                <a:prstGeom prst="line">
                  <a:avLst/>
                </a:prstGeom>
                <a:ln w="255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Rectangle 24"/>
                <p:cNvSpPr/>
                <p:nvPr/>
              </p:nvSpPr>
              <p:spPr>
                <a:xfrm>
                  <a:off x="192960" y="5423040"/>
                  <a:ext cx="38916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0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Rectangle 25"/>
                <p:cNvSpPr/>
                <p:nvPr/>
              </p:nvSpPr>
              <p:spPr>
                <a:xfrm>
                  <a:off x="-1440" y="1327320"/>
                  <a:ext cx="6955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1.5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Rectangle 26"/>
                <p:cNvSpPr/>
                <p:nvPr/>
              </p:nvSpPr>
              <p:spPr>
                <a:xfrm>
                  <a:off x="-720" y="2914560"/>
                  <a:ext cx="808200" cy="5191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ff"/>
                      </a:solidFill>
                      <a:latin typeface="Times New Roman"/>
                    </a:rPr>
                    <a:t>1.17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Rectangle 27"/>
                <p:cNvSpPr/>
                <p:nvPr/>
              </p:nvSpPr>
              <p:spPr>
                <a:xfrm>
                  <a:off x="-1080" y="4241880"/>
                  <a:ext cx="49140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.5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2" name="Rectangle 28"/>
            <p:cNvSpPr/>
            <p:nvPr/>
          </p:nvSpPr>
          <p:spPr>
            <a:xfrm>
              <a:off x="5490720" y="2122560"/>
              <a:ext cx="3341160" cy="2042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For EBIT gre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an $2.16 m,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he levered plan i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est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Rectangle 29"/>
            <p:cNvSpPr/>
            <p:nvPr/>
          </p:nvSpPr>
          <p:spPr>
            <a:xfrm>
              <a:off x="822240" y="160200"/>
              <a:ext cx="2603520" cy="252972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For EBIT up to $2.16 m,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stock financing is best.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464520" cy="116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hat is the Optimal Capital Structure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33120" y="1752480"/>
            <a:ext cx="8210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a “perfect world” environment with no taxes, no transaction costs and perfectly efficient financial markets,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apital structure does not mat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is known as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dependence hypothesi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firm value is independent of capital structur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63552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Independence Hypothesi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m value does not depend on capital structu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4T11:43:52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5:05Z</dcterms:modified>
  <cp:revision>24</cp:revision>
  <dc:subject>Ch. 16:  Planning the Firm's Financing Mix</dc:subject>
  <dc:title>Financial Management</dc:title>
</cp:coreProperties>
</file>